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36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60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6E5-1738-4EB0-ACDD-DF1673AA7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6128-4C35-49DE-837A-3D3C3946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ED6-9FDE-4E57-9DC6-B8D97AC17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9957-9D8C-4027-9A3E-882B60FA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2124-2F9B-4764-B5F2-CC69FCD32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29C-B1BE-4742-86DC-8B29E605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5B4-855B-458A-A62A-8CD78DE8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0732-6350-4F56-BF2A-BD95DADC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F55-8D0E-45AA-A693-D003DE25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95D6-A5F8-4510-80FD-C19E4E58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D05A-5EC0-43AA-B266-05BAA1962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92F3-EAD0-4FB4-A768-D84C23278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FBC7-8DEE-459A-B72D-DE9A1336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42B5-CC4A-4458-8186-A899A67F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B333-DE4E-4060-A846-D6778C1A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1479-5676-48B7-946E-3CC6D6D2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E1C9-6BB3-4C52-B36F-0B1FB3FD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1C9-66C2-40EC-95AA-09AC6680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86E-97A0-46F5-B18C-7B672B4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326-CC09-4E92-8B5C-38DA9F86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DD5-BB1D-48EE-9694-FFE03627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A12-19F2-47EF-BF3B-71C6F6D5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5E0-8F9D-45D8-9FC6-CEB3D21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800-213A-4989-8777-8EA3326B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A80-0196-486B-9650-879557E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3B9-AC0D-4971-9F75-EA65C083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C26-8794-446E-8EC8-EB03A55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0D5-420F-453B-88FA-FB71AFC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99C-1A61-4691-B427-014AF65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51AB-78CA-444C-B60D-EF49F65DA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4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3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0.wmf"/><Relationship Id="rId2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0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2.wmf"/><Relationship Id="rId3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94280" y="289548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 Sequences and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330120" y="237960"/>
          <a:ext cx="37972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237960"/>
                    <a:ext cx="3797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3"/>
          <p:cNvGrpSpPr/>
          <p:nvPr/>
        </p:nvGrpSpPr>
        <p:grpSpPr>
          <a:xfrm>
            <a:off x="2356920" y="839880"/>
            <a:ext cx="4202280" cy="3014640"/>
            <a:chOff x="2356920" y="839880"/>
            <a:chExt cx="4202280" cy="3014640"/>
          </a:xfrm>
        </p:grpSpPr>
        <p:grpSp>
          <p:nvGrpSpPr>
            <p:cNvPr id="207" name="Group 4"/>
            <p:cNvGrpSpPr/>
            <p:nvPr/>
          </p:nvGrpSpPr>
          <p:grpSpPr>
            <a:xfrm>
              <a:off x="3209760" y="911160"/>
              <a:ext cx="3349440" cy="2390760"/>
              <a:chOff x="3209760" y="911160"/>
              <a:chExt cx="3349440" cy="2390760"/>
            </a:xfrm>
          </p:grpSpPr>
          <p:graphicFrame>
            <p:nvGraphicFramePr>
              <p:cNvPr id="208" name="Object 5"/>
              <p:cNvGraphicFramePr/>
              <p:nvPr/>
            </p:nvGraphicFramePr>
            <p:xfrm>
              <a:off x="3241440" y="911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9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41440" y="911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0" name="Object 6"/>
              <p:cNvGraphicFramePr/>
              <p:nvPr/>
            </p:nvGraphicFramePr>
            <p:xfrm>
              <a:off x="3238200" y="1444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1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38200" y="1444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" name="Object 7"/>
              <p:cNvGraphicFramePr/>
              <p:nvPr/>
            </p:nvGraphicFramePr>
            <p:xfrm>
              <a:off x="3209760" y="2444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3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9760" y="2444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4" name="Object 8"/>
              <p:cNvGraphicFramePr/>
              <p:nvPr/>
            </p:nvGraphicFramePr>
            <p:xfrm>
              <a:off x="3358800" y="1965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5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358800" y="1965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6" name="Object 9"/>
              <p:cNvGraphicFramePr/>
              <p:nvPr/>
            </p:nvGraphicFramePr>
            <p:xfrm>
              <a:off x="3346200" y="2946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7" name="Object 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46200" y="2946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8" name="Text Box 10"/>
            <p:cNvSpPr/>
            <p:nvPr/>
          </p:nvSpPr>
          <p:spPr>
            <a:xfrm>
              <a:off x="2538360" y="839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1"/>
            <p:cNvSpPr/>
            <p:nvPr/>
          </p:nvSpPr>
          <p:spPr>
            <a:xfrm>
              <a:off x="2539080" y="1868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2356920" y="13636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2434680" y="2344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2462400" y="286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5"/>
            <p:cNvGraphicFramePr/>
            <p:nvPr/>
          </p:nvGraphicFramePr>
          <p:xfrm>
            <a:off x="3228840" y="3422520"/>
            <a:ext cx="2210040" cy="43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28840" y="3422520"/>
                      <a:ext cx="22100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5" name="Object 16"/>
          <p:cNvGraphicFramePr/>
          <p:nvPr/>
        </p:nvGraphicFramePr>
        <p:xfrm>
          <a:off x="3086280" y="4051440"/>
          <a:ext cx="25146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6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86280" y="405144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7"/>
          <p:cNvGraphicFramePr/>
          <p:nvPr/>
        </p:nvGraphicFramePr>
        <p:xfrm>
          <a:off x="3083040" y="4702320"/>
          <a:ext cx="120636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3040" y="4702320"/>
                    <a:ext cx="1206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8"/>
          <p:cNvGraphicFramePr/>
          <p:nvPr/>
        </p:nvGraphicFramePr>
        <p:xfrm>
          <a:off x="3203640" y="5162400"/>
          <a:ext cx="88884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0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3640" y="5162400"/>
                    <a:ext cx="888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64600" y="14436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arithmetic means between –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719080" y="78264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4, ____, ____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914560" y="1378080"/>
            <a:ext cx="3349440" cy="2390760"/>
            <a:chOff x="2914560" y="1378080"/>
            <a:chExt cx="3349440" cy="2390760"/>
          </a:xfrm>
        </p:grpSpPr>
        <p:graphicFrame>
          <p:nvGraphicFramePr>
            <p:cNvPr id="234" name="Object 5"/>
            <p:cNvGraphicFramePr/>
            <p:nvPr/>
          </p:nvGraphicFramePr>
          <p:xfrm>
            <a:off x="2946240" y="137808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37808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6"/>
            <p:cNvGraphicFramePr/>
            <p:nvPr/>
          </p:nvGraphicFramePr>
          <p:xfrm>
            <a:off x="2943000" y="1911240"/>
            <a:ext cx="186696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3000" y="191124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7"/>
            <p:cNvGraphicFramePr/>
            <p:nvPr/>
          </p:nvGraphicFramePr>
          <p:xfrm>
            <a:off x="2914560" y="2911320"/>
            <a:ext cx="27813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14560" y="29113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Object 8"/>
            <p:cNvGraphicFramePr/>
            <p:nvPr/>
          </p:nvGraphicFramePr>
          <p:xfrm>
            <a:off x="3063600" y="2432160"/>
            <a:ext cx="2844720" cy="35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243216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9"/>
            <p:cNvGraphicFramePr/>
            <p:nvPr/>
          </p:nvGraphicFramePr>
          <p:xfrm>
            <a:off x="3051000" y="3413160"/>
            <a:ext cx="321300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1000" y="341316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4" name="Text Box 10"/>
          <p:cNvSpPr/>
          <p:nvPr/>
        </p:nvSpPr>
        <p:spPr>
          <a:xfrm>
            <a:off x="2148120" y="1316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167200" y="234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205360" y="183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2091600" y="2820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2205360" y="33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3114720" y="3870360"/>
          <a:ext cx="22096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4720" y="38703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6"/>
          <p:cNvGraphicFramePr/>
          <p:nvPr/>
        </p:nvGraphicFramePr>
        <p:xfrm>
          <a:off x="3232080" y="4346640"/>
          <a:ext cx="241308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2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2080" y="4346640"/>
                    <a:ext cx="2413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7"/>
          <p:cNvGraphicFramePr/>
          <p:nvPr/>
        </p:nvGraphicFramePr>
        <p:xfrm>
          <a:off x="3213000" y="4807080"/>
          <a:ext cx="69876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3000" y="4807080"/>
                    <a:ext cx="698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18"/>
          <p:cNvGrpSpPr/>
          <p:nvPr/>
        </p:nvGrpSpPr>
        <p:grpSpPr>
          <a:xfrm>
            <a:off x="383760" y="5240160"/>
            <a:ext cx="7893720" cy="983880"/>
            <a:chOff x="383760" y="5240160"/>
            <a:chExt cx="7893720" cy="983880"/>
          </a:xfrm>
        </p:grpSpPr>
        <p:sp>
          <p:nvSpPr>
            <p:cNvPr id="256" name="Text Box 19"/>
            <p:cNvSpPr/>
            <p:nvPr/>
          </p:nvSpPr>
          <p:spPr>
            <a:xfrm>
              <a:off x="383760" y="5240160"/>
              <a:ext cx="789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arithmetic means are –1 and 2, since –4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-1,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2424960" y="5764320"/>
              <a:ext cx="41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ms an arithmet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63880" y="1443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ree arithmetic means between 1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719440" y="78264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, ____, ____, ____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2914560" y="1378080"/>
            <a:ext cx="3349440" cy="2390760"/>
            <a:chOff x="2914560" y="1378080"/>
            <a:chExt cx="3349440" cy="2390760"/>
          </a:xfrm>
        </p:grpSpPr>
        <p:graphicFrame>
          <p:nvGraphicFramePr>
            <p:cNvPr id="261" name="Object 5"/>
            <p:cNvGraphicFramePr/>
            <p:nvPr/>
          </p:nvGraphicFramePr>
          <p:xfrm>
            <a:off x="2946240" y="137808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37808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6"/>
            <p:cNvGraphicFramePr/>
            <p:nvPr/>
          </p:nvGraphicFramePr>
          <p:xfrm>
            <a:off x="2943000" y="1911240"/>
            <a:ext cx="186696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3000" y="191124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7"/>
            <p:cNvGraphicFramePr/>
            <p:nvPr/>
          </p:nvGraphicFramePr>
          <p:xfrm>
            <a:off x="2914560" y="2911320"/>
            <a:ext cx="27813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14560" y="29113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8"/>
            <p:cNvGraphicFramePr/>
            <p:nvPr/>
          </p:nvGraphicFramePr>
          <p:xfrm>
            <a:off x="3063600" y="2432160"/>
            <a:ext cx="2844720" cy="35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8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243216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Object 9"/>
            <p:cNvGraphicFramePr/>
            <p:nvPr/>
          </p:nvGraphicFramePr>
          <p:xfrm>
            <a:off x="3051000" y="3413160"/>
            <a:ext cx="321300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1000" y="341316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" name="Text Box 10"/>
          <p:cNvSpPr/>
          <p:nvPr/>
        </p:nvSpPr>
        <p:spPr>
          <a:xfrm>
            <a:off x="2148120" y="13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167200" y="234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205360" y="183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2091600" y="2820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205360" y="33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15"/>
          <p:cNvGraphicFramePr/>
          <p:nvPr/>
        </p:nvGraphicFramePr>
        <p:xfrm>
          <a:off x="3114720" y="3870360"/>
          <a:ext cx="22096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4720" y="38703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6"/>
          <p:cNvGraphicFramePr/>
          <p:nvPr/>
        </p:nvGraphicFramePr>
        <p:xfrm>
          <a:off x="3238560" y="4346640"/>
          <a:ext cx="21715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8560" y="4346640"/>
                    <a:ext cx="2171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7"/>
          <p:cNvGraphicFramePr/>
          <p:nvPr/>
        </p:nvGraphicFramePr>
        <p:xfrm>
          <a:off x="3235320" y="4762440"/>
          <a:ext cx="74916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35320" y="4762440"/>
                    <a:ext cx="749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2" name="Group 18"/>
          <p:cNvGrpSpPr/>
          <p:nvPr/>
        </p:nvGrpSpPr>
        <p:grpSpPr>
          <a:xfrm>
            <a:off x="592920" y="5573880"/>
            <a:ext cx="7691040" cy="954720"/>
            <a:chOff x="592920" y="5573880"/>
            <a:chExt cx="7691040" cy="954720"/>
          </a:xfrm>
        </p:grpSpPr>
        <p:sp>
          <p:nvSpPr>
            <p:cNvPr id="283" name="Text Box 19"/>
            <p:cNvSpPr/>
            <p:nvPr/>
          </p:nvSpPr>
          <p:spPr>
            <a:xfrm>
              <a:off x="955800" y="5573880"/>
              <a:ext cx="70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hree arithmetic means are 7/4, 10/4, and 13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0"/>
            <p:cNvSpPr/>
            <p:nvPr/>
          </p:nvSpPr>
          <p:spPr>
            <a:xfrm>
              <a:off x="592920" y="6068880"/>
              <a:ext cx="76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1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7/4, 10/4, 13/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4 forms an arithmet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15280" y="1731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n for the series in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4292640" y="244440"/>
          <a:ext cx="28447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244440"/>
                    <a:ext cx="2844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Group 4"/>
          <p:cNvGrpSpPr/>
          <p:nvPr/>
        </p:nvGrpSpPr>
        <p:grpSpPr>
          <a:xfrm>
            <a:off x="914400" y="787320"/>
            <a:ext cx="3349440" cy="2390760"/>
            <a:chOff x="914400" y="787320"/>
            <a:chExt cx="3349440" cy="2390760"/>
          </a:xfrm>
        </p:grpSpPr>
        <p:graphicFrame>
          <p:nvGraphicFramePr>
            <p:cNvPr id="289" name="Object 5"/>
            <p:cNvGraphicFramePr/>
            <p:nvPr/>
          </p:nvGraphicFramePr>
          <p:xfrm>
            <a:off x="946080" y="78732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6080" y="78732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Object 6"/>
            <p:cNvGraphicFramePr/>
            <p:nvPr/>
          </p:nvGraphicFramePr>
          <p:xfrm>
            <a:off x="942840" y="132048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42840" y="132048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7"/>
            <p:cNvGraphicFramePr/>
            <p:nvPr/>
          </p:nvGraphicFramePr>
          <p:xfrm>
            <a:off x="914400" y="232056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14400" y="232056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8"/>
            <p:cNvGraphicFramePr/>
            <p:nvPr/>
          </p:nvGraphicFramePr>
          <p:xfrm>
            <a:off x="1063440" y="184140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63440" y="184140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9"/>
            <p:cNvGraphicFramePr/>
            <p:nvPr/>
          </p:nvGraphicFramePr>
          <p:xfrm>
            <a:off x="1050840" y="282240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50840" y="282240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Text Box 10"/>
          <p:cNvSpPr/>
          <p:nvPr/>
        </p:nvSpPr>
        <p:spPr>
          <a:xfrm>
            <a:off x="338400" y="725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57480" y="175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9528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48680" y="223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95640" y="27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15"/>
          <p:cNvGraphicFramePr/>
          <p:nvPr/>
        </p:nvGraphicFramePr>
        <p:xfrm>
          <a:off x="1066680" y="3375000"/>
          <a:ext cx="221004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375000"/>
                    <a:ext cx="221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6"/>
          <p:cNvGraphicFramePr/>
          <p:nvPr/>
        </p:nvGraphicFramePr>
        <p:xfrm>
          <a:off x="993600" y="4648320"/>
          <a:ext cx="20322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3600" y="4648320"/>
                    <a:ext cx="20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7"/>
          <p:cNvGraphicFramePr/>
          <p:nvPr/>
        </p:nvGraphicFramePr>
        <p:xfrm>
          <a:off x="1181160" y="3908520"/>
          <a:ext cx="198108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1160" y="3908520"/>
                    <a:ext cx="19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8"/>
          <p:cNvGraphicFramePr/>
          <p:nvPr/>
        </p:nvGraphicFramePr>
        <p:xfrm>
          <a:off x="819000" y="5467320"/>
          <a:ext cx="198144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9000" y="5467320"/>
                    <a:ext cx="198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9"/>
          <p:cNvGraphicFramePr/>
          <p:nvPr/>
        </p:nvGraphicFramePr>
        <p:xfrm>
          <a:off x="4962600" y="990720"/>
          <a:ext cx="3276360" cy="72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62600" y="990720"/>
                    <a:ext cx="3276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20"/>
          <p:cNvGraphicFramePr/>
          <p:nvPr/>
        </p:nvGraphicFramePr>
        <p:xfrm>
          <a:off x="4968720" y="1768320"/>
          <a:ext cx="2159280" cy="787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68720" y="1768320"/>
                    <a:ext cx="2159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4943520" y="2631960"/>
          <a:ext cx="2095560" cy="432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43520" y="263196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2"/>
          <p:cNvGraphicFramePr/>
          <p:nvPr/>
        </p:nvGraphicFramePr>
        <p:xfrm>
          <a:off x="5245200" y="3152880"/>
          <a:ext cx="2425680" cy="34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9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45200" y="31528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23"/>
          <p:cNvSpPr/>
          <p:nvPr/>
        </p:nvSpPr>
        <p:spPr>
          <a:xfrm>
            <a:off x="6195600" y="4211640"/>
            <a:ext cx="1070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4866120" y="36115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on positiv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054160" y="304812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 – Geometric Sequences and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914400" y="380880"/>
          <a:ext cx="182880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1828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3"/>
          <p:cNvSpPr/>
          <p:nvPr/>
        </p:nvSpPr>
        <p:spPr>
          <a:xfrm>
            <a:off x="291600" y="21733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ithmet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86160" y="266688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5181480" y="390600"/>
          <a:ext cx="2184480" cy="17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90600"/>
                    <a:ext cx="21844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Text Box 6"/>
          <p:cNvSpPr/>
          <p:nvPr/>
        </p:nvSpPr>
        <p:spPr>
          <a:xfrm>
            <a:off x="4498200" y="21733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ometr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4893120" y="266688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758160" y="387360"/>
            <a:ext cx="3280320" cy="4411080"/>
            <a:chOff x="758160" y="387360"/>
            <a:chExt cx="3280320" cy="4411080"/>
          </a:xfrm>
        </p:grpSpPr>
        <p:sp>
          <p:nvSpPr>
            <p:cNvPr id="332" name="Text Box 9"/>
            <p:cNvSpPr/>
            <p:nvPr/>
          </p:nvSpPr>
          <p:spPr>
            <a:xfrm>
              <a:off x="758160" y="384336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rithmet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889200" y="433872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Object 11"/>
            <p:cNvGraphicFramePr/>
            <p:nvPr/>
          </p:nvGraphicFramePr>
          <p:xfrm>
            <a:off x="3200400" y="387360"/>
            <a:ext cx="838080" cy="165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5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87360"/>
                      <a:ext cx="83808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6" name="Group 12"/>
          <p:cNvGrpSpPr/>
          <p:nvPr/>
        </p:nvGrpSpPr>
        <p:grpSpPr>
          <a:xfrm>
            <a:off x="5101200" y="396720"/>
            <a:ext cx="3299760" cy="4411080"/>
            <a:chOff x="5101200" y="396720"/>
            <a:chExt cx="3299760" cy="4411080"/>
          </a:xfrm>
        </p:grpSpPr>
        <p:sp>
          <p:nvSpPr>
            <p:cNvPr id="337" name="Text Box 13"/>
            <p:cNvSpPr/>
            <p:nvPr/>
          </p:nvSpPr>
          <p:spPr>
            <a:xfrm>
              <a:off x="5101200" y="38527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eometr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4"/>
            <p:cNvSpPr/>
            <p:nvPr/>
          </p:nvSpPr>
          <p:spPr>
            <a:xfrm>
              <a:off x="5232600" y="434808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9" name="Object 15"/>
            <p:cNvGraphicFramePr/>
            <p:nvPr/>
          </p:nvGraphicFramePr>
          <p:xfrm>
            <a:off x="7524720" y="396720"/>
            <a:ext cx="87624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0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4720" y="396720"/>
                      <a:ext cx="87624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809720" y="2109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of Sequences (Uni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174840" y="844560"/>
          <a:ext cx="20322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844560"/>
                    <a:ext cx="2032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3171960" y="1378080"/>
          <a:ext cx="1866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1378080"/>
                    <a:ext cx="1866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5"/>
          <p:cNvGraphicFramePr/>
          <p:nvPr/>
        </p:nvGraphicFramePr>
        <p:xfrm>
          <a:off x="3143160" y="2378160"/>
          <a:ext cx="27813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2378160"/>
                    <a:ext cx="2781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3292560" y="1898640"/>
          <a:ext cx="2844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2560" y="1898640"/>
                    <a:ext cx="284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7"/>
          <p:cNvGraphicFramePr/>
          <p:nvPr/>
        </p:nvGraphicFramePr>
        <p:xfrm>
          <a:off x="3314880" y="2879640"/>
          <a:ext cx="24001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14880" y="2879640"/>
                    <a:ext cx="24001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8"/>
          <p:cNvGraphicFramePr/>
          <p:nvPr/>
        </p:nvGraphicFramePr>
        <p:xfrm>
          <a:off x="533520" y="3505320"/>
          <a:ext cx="7746840" cy="14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3505320"/>
                    <a:ext cx="77468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61800" y="344520"/>
            <a:ext cx="71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three terms of 2, 3, 9/2, ___, ___,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964160" y="87804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 – 2 vs. 9/2 – 3… no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1905120" y="1371600"/>
          <a:ext cx="4736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4736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Group 5"/>
          <p:cNvGrpSpPr/>
          <p:nvPr/>
        </p:nvGrpSpPr>
        <p:grpSpPr>
          <a:xfrm>
            <a:off x="1905120" y="2514600"/>
            <a:ext cx="4851360" cy="838080"/>
            <a:chOff x="1905120" y="2514600"/>
            <a:chExt cx="4851360" cy="838080"/>
          </a:xfrm>
        </p:grpSpPr>
        <p:graphicFrame>
          <p:nvGraphicFramePr>
            <p:cNvPr id="359" name="Object 6"/>
            <p:cNvGraphicFramePr/>
            <p:nvPr/>
          </p:nvGraphicFramePr>
          <p:xfrm>
            <a:off x="1905120" y="2514600"/>
            <a:ext cx="48513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2514600"/>
                      <a:ext cx="48513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1" name="Group 7"/>
            <p:cNvGrpSpPr/>
            <p:nvPr/>
          </p:nvGrpSpPr>
          <p:grpSpPr>
            <a:xfrm>
              <a:off x="2895480" y="3352680"/>
              <a:ext cx="3810240" cy="0"/>
              <a:chOff x="2895480" y="3352680"/>
              <a:chExt cx="3810240" cy="0"/>
            </a:xfrm>
          </p:grpSpPr>
          <p:sp>
            <p:nvSpPr>
              <p:cNvPr id="362" name="Line 8"/>
              <p:cNvSpPr/>
              <p:nvPr/>
            </p:nvSpPr>
            <p:spPr>
              <a:xfrm>
                <a:off x="2895480" y="335268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9"/>
              <p:cNvSpPr/>
              <p:nvPr/>
            </p:nvSpPr>
            <p:spPr>
              <a:xfrm>
                <a:off x="3657600" y="33526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0"/>
              <p:cNvSpPr/>
              <p:nvPr/>
            </p:nvSpPr>
            <p:spPr>
              <a:xfrm>
                <a:off x="5029200" y="335268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5" name="Object 11"/>
          <p:cNvGraphicFramePr/>
          <p:nvPr/>
        </p:nvGraphicFramePr>
        <p:xfrm>
          <a:off x="2895480" y="3886200"/>
          <a:ext cx="2578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86200"/>
                    <a:ext cx="2578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152280" y="152280"/>
          <a:ext cx="29718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2971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3"/>
          <p:cNvGrpSpPr/>
          <p:nvPr/>
        </p:nvGrpSpPr>
        <p:grpSpPr>
          <a:xfrm>
            <a:off x="3127320" y="1003320"/>
            <a:ext cx="2994120" cy="2390760"/>
            <a:chOff x="3127320" y="1003320"/>
            <a:chExt cx="2994120" cy="2390760"/>
          </a:xfrm>
        </p:grpSpPr>
        <p:graphicFrame>
          <p:nvGraphicFramePr>
            <p:cNvPr id="370" name="Object 4"/>
            <p:cNvGraphicFramePr/>
            <p:nvPr/>
          </p:nvGraphicFramePr>
          <p:xfrm>
            <a:off x="3159000" y="100332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59000" y="100332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5"/>
            <p:cNvGraphicFramePr/>
            <p:nvPr/>
          </p:nvGraphicFramePr>
          <p:xfrm>
            <a:off x="3156120" y="153684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56120" y="153684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" name="Object 6"/>
            <p:cNvGraphicFramePr/>
            <p:nvPr/>
          </p:nvGraphicFramePr>
          <p:xfrm>
            <a:off x="3127320" y="253692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7320" y="25369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Object 7"/>
            <p:cNvGraphicFramePr/>
            <p:nvPr/>
          </p:nvGraphicFramePr>
          <p:xfrm>
            <a:off x="3276720" y="205740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76720" y="205740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8" name="Object 8"/>
            <p:cNvGraphicFramePr/>
            <p:nvPr/>
          </p:nvGraphicFramePr>
          <p:xfrm>
            <a:off x="3298680" y="303840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9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8680" y="303840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0" name="Text Box 9"/>
          <p:cNvSpPr/>
          <p:nvPr/>
        </p:nvSpPr>
        <p:spPr>
          <a:xfrm>
            <a:off x="6402600" y="914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6545520" y="138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45520" y="194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6450840" y="2438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6411960" y="2933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14"/>
          <p:cNvGraphicFramePr/>
          <p:nvPr/>
        </p:nvGraphicFramePr>
        <p:xfrm>
          <a:off x="3568680" y="3797280"/>
          <a:ext cx="128268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8680" y="379728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5"/>
          <p:cNvGraphicFramePr/>
          <p:nvPr/>
        </p:nvGraphicFramePr>
        <p:xfrm>
          <a:off x="3689280" y="4210200"/>
          <a:ext cx="1879560" cy="87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89280" y="4210200"/>
                    <a:ext cx="18795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3654360" y="5280120"/>
          <a:ext cx="1320840" cy="77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4360" y="5280120"/>
                    <a:ext cx="132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17"/>
          <p:cNvGraphicFramePr/>
          <p:nvPr/>
        </p:nvGraphicFramePr>
        <p:xfrm>
          <a:off x="5057640" y="5299200"/>
          <a:ext cx="648000" cy="77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2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57640" y="5299200"/>
                    <a:ext cx="648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8"/>
          <p:cNvGraphicFramePr/>
          <p:nvPr/>
        </p:nvGraphicFramePr>
        <p:xfrm>
          <a:off x="5803920" y="5353200"/>
          <a:ext cx="965160" cy="72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4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03920" y="5353200"/>
                    <a:ext cx="9651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27160" y="2779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geometric means between –2 and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967120" y="8967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2, ____, ____,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89080" y="1536840"/>
            <a:ext cx="2993400" cy="2390760"/>
            <a:chOff x="289080" y="1536840"/>
            <a:chExt cx="2993400" cy="2390760"/>
          </a:xfrm>
        </p:grpSpPr>
        <p:graphicFrame>
          <p:nvGraphicFramePr>
            <p:cNvPr id="398" name="Object 5"/>
            <p:cNvGraphicFramePr/>
            <p:nvPr/>
          </p:nvGraphicFramePr>
          <p:xfrm>
            <a:off x="320400" y="153684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400" y="153684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Object 6"/>
            <p:cNvGraphicFramePr/>
            <p:nvPr/>
          </p:nvGraphicFramePr>
          <p:xfrm>
            <a:off x="317520" y="2070360"/>
            <a:ext cx="18662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1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7520" y="2070360"/>
                      <a:ext cx="18662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Object 7"/>
            <p:cNvGraphicFramePr/>
            <p:nvPr/>
          </p:nvGraphicFramePr>
          <p:xfrm>
            <a:off x="289080" y="3070440"/>
            <a:ext cx="2781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080" y="3070440"/>
                      <a:ext cx="2781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Object 8"/>
            <p:cNvGraphicFramePr/>
            <p:nvPr/>
          </p:nvGraphicFramePr>
          <p:xfrm>
            <a:off x="438120" y="2590920"/>
            <a:ext cx="284436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8120" y="2590920"/>
                      <a:ext cx="28443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9"/>
            <p:cNvGraphicFramePr/>
            <p:nvPr/>
          </p:nvGraphicFramePr>
          <p:xfrm>
            <a:off x="460080" y="3571920"/>
            <a:ext cx="24001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0080" y="3571920"/>
                      <a:ext cx="24001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8" name="Text Box 10"/>
          <p:cNvSpPr/>
          <p:nvPr/>
        </p:nvSpPr>
        <p:spPr>
          <a:xfrm>
            <a:off x="3735360" y="1447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3707640" y="191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3764160" y="247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3612600" y="2971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764160" y="34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15"/>
          <p:cNvGraphicFramePr/>
          <p:nvPr/>
        </p:nvGraphicFramePr>
        <p:xfrm>
          <a:off x="5759280" y="1844640"/>
          <a:ext cx="12830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9280" y="1844640"/>
                    <a:ext cx="1283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6"/>
          <p:cNvGraphicFramePr/>
          <p:nvPr/>
        </p:nvGraphicFramePr>
        <p:xfrm>
          <a:off x="5724360" y="2352600"/>
          <a:ext cx="198144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6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2352600"/>
                    <a:ext cx="1981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17"/>
          <p:cNvGraphicFramePr/>
          <p:nvPr/>
        </p:nvGraphicFramePr>
        <p:xfrm>
          <a:off x="5981760" y="2959200"/>
          <a:ext cx="11430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8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81760" y="2959200"/>
                    <a:ext cx="1143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8"/>
          <p:cNvGraphicFramePr/>
          <p:nvPr/>
        </p:nvGraphicFramePr>
        <p:xfrm>
          <a:off x="6153120" y="3416400"/>
          <a:ext cx="8762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0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3120" y="3416400"/>
                    <a:ext cx="876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19"/>
          <p:cNvGrpSpPr/>
          <p:nvPr/>
        </p:nvGrpSpPr>
        <p:grpSpPr>
          <a:xfrm>
            <a:off x="356040" y="4649760"/>
            <a:ext cx="8350920" cy="983520"/>
            <a:chOff x="356040" y="4649760"/>
            <a:chExt cx="8350920" cy="983520"/>
          </a:xfrm>
        </p:grpSpPr>
        <p:sp>
          <p:nvSpPr>
            <p:cNvPr id="422" name="Text Box 20"/>
            <p:cNvSpPr/>
            <p:nvPr/>
          </p:nvSpPr>
          <p:spPr>
            <a:xfrm>
              <a:off x="356040" y="4649760"/>
              <a:ext cx="83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geometric means are 6 and -18, since –2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6, -1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21"/>
            <p:cNvSpPr/>
            <p:nvPr/>
          </p:nvSpPr>
          <p:spPr>
            <a:xfrm>
              <a:off x="2396520" y="517356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ms an geometr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92320" y="2682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914400" y="1158840"/>
          <a:ext cx="182880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58840"/>
                    <a:ext cx="1828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1600" y="29512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ithmet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6160" y="344484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5181480" y="1168560"/>
          <a:ext cx="218448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168560"/>
                    <a:ext cx="218448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4498200" y="29512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ometr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93120" y="344484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758160" y="1165320"/>
            <a:ext cx="3280320" cy="4411080"/>
            <a:chOff x="758160" y="1165320"/>
            <a:chExt cx="3280320" cy="4411080"/>
          </a:xfrm>
        </p:grpSpPr>
        <p:sp>
          <p:nvSpPr>
            <p:cNvPr id="59" name="Text Box 10"/>
            <p:cNvSpPr/>
            <p:nvPr/>
          </p:nvSpPr>
          <p:spPr>
            <a:xfrm>
              <a:off x="758160" y="462132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rithmet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889200" y="511668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Object 12"/>
            <p:cNvGraphicFramePr/>
            <p:nvPr/>
          </p:nvGraphicFramePr>
          <p:xfrm>
            <a:off x="3200400" y="1165320"/>
            <a:ext cx="838080" cy="165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1165320"/>
                      <a:ext cx="83808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" name="Group 13"/>
          <p:cNvGrpSpPr/>
          <p:nvPr/>
        </p:nvGrpSpPr>
        <p:grpSpPr>
          <a:xfrm>
            <a:off x="5101200" y="1174680"/>
            <a:ext cx="3299760" cy="4411080"/>
            <a:chOff x="5101200" y="1174680"/>
            <a:chExt cx="3299760" cy="4411080"/>
          </a:xfrm>
        </p:grpSpPr>
        <p:sp>
          <p:nvSpPr>
            <p:cNvPr id="64" name="Text Box 14"/>
            <p:cNvSpPr/>
            <p:nvPr/>
          </p:nvSpPr>
          <p:spPr>
            <a:xfrm>
              <a:off x="5101200" y="463068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eometr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5"/>
            <p:cNvSpPr/>
            <p:nvPr/>
          </p:nvSpPr>
          <p:spPr>
            <a:xfrm>
              <a:off x="5232600" y="512604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Object 16"/>
            <p:cNvGraphicFramePr/>
            <p:nvPr/>
          </p:nvGraphicFramePr>
          <p:xfrm>
            <a:off x="7524720" y="1174680"/>
            <a:ext cx="87624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4720" y="1174680"/>
                      <a:ext cx="87624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231840" y="142920"/>
          <a:ext cx="4127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2920"/>
                    <a:ext cx="4127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Text Box 3"/>
          <p:cNvSpPr/>
          <p:nvPr/>
        </p:nvSpPr>
        <p:spPr>
          <a:xfrm>
            <a:off x="2710440" y="11066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3, ____, ____,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4"/>
          <p:cNvGraphicFramePr/>
          <p:nvPr/>
        </p:nvGraphicFramePr>
        <p:xfrm>
          <a:off x="3137040" y="2143080"/>
          <a:ext cx="17650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2143080"/>
                    <a:ext cx="17650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5"/>
          <p:cNvGraphicFramePr/>
          <p:nvPr/>
        </p:nvGraphicFramePr>
        <p:xfrm>
          <a:off x="2968560" y="3390840"/>
          <a:ext cx="196848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8560" y="3390840"/>
                    <a:ext cx="1968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2260440" y="4356000"/>
          <a:ext cx="34801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0440" y="4356000"/>
                    <a:ext cx="34801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3650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3"/>
          <p:cNvGraphicFramePr/>
          <p:nvPr/>
        </p:nvGraphicFramePr>
        <p:xfrm>
          <a:off x="200160" y="171360"/>
          <a:ext cx="3085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71360"/>
                    <a:ext cx="308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Group 4"/>
          <p:cNvGrpSpPr/>
          <p:nvPr/>
        </p:nvGrpSpPr>
        <p:grpSpPr>
          <a:xfrm>
            <a:off x="1908000" y="1117440"/>
            <a:ext cx="2994120" cy="2390760"/>
            <a:chOff x="1908000" y="1117440"/>
            <a:chExt cx="2994120" cy="2390760"/>
          </a:xfrm>
        </p:grpSpPr>
        <p:graphicFrame>
          <p:nvGraphicFramePr>
            <p:cNvPr id="437" name="Object 5"/>
            <p:cNvGraphicFramePr/>
            <p:nvPr/>
          </p:nvGraphicFramePr>
          <p:xfrm>
            <a:off x="1939680" y="111744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9680" y="111744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9" name="Object 6"/>
            <p:cNvGraphicFramePr/>
            <p:nvPr/>
          </p:nvGraphicFramePr>
          <p:xfrm>
            <a:off x="1936800" y="165096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36800" y="165096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Object 7"/>
            <p:cNvGraphicFramePr/>
            <p:nvPr/>
          </p:nvGraphicFramePr>
          <p:xfrm>
            <a:off x="1908000" y="265104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8000" y="265104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Object 8"/>
            <p:cNvGraphicFramePr/>
            <p:nvPr/>
          </p:nvGraphicFramePr>
          <p:xfrm>
            <a:off x="2057400" y="217152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217152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Object 9"/>
            <p:cNvGraphicFramePr/>
            <p:nvPr/>
          </p:nvGraphicFramePr>
          <p:xfrm>
            <a:off x="2079360" y="315252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9360" y="315252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7" name="Text Box 10"/>
          <p:cNvSpPr/>
          <p:nvPr/>
        </p:nvSpPr>
        <p:spPr>
          <a:xfrm>
            <a:off x="5326200" y="15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5383440" y="20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5231880" y="2590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3"/>
          <p:cNvGraphicFramePr/>
          <p:nvPr/>
        </p:nvGraphicFramePr>
        <p:xfrm>
          <a:off x="5327640" y="1050840"/>
          <a:ext cx="43164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27640" y="105084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4"/>
          <p:cNvGraphicFramePr/>
          <p:nvPr/>
        </p:nvGraphicFramePr>
        <p:xfrm>
          <a:off x="5264280" y="3159000"/>
          <a:ext cx="257796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64280" y="3159000"/>
                    <a:ext cx="2577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5"/>
          <p:cNvGraphicFramePr/>
          <p:nvPr/>
        </p:nvGraphicFramePr>
        <p:xfrm>
          <a:off x="3711600" y="4206960"/>
          <a:ext cx="128268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11600" y="42069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6"/>
          <p:cNvGraphicFramePr/>
          <p:nvPr/>
        </p:nvGraphicFramePr>
        <p:xfrm>
          <a:off x="3838680" y="4756320"/>
          <a:ext cx="1866960" cy="622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38680" y="4756320"/>
                    <a:ext cx="1866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17"/>
          <p:cNvGraphicFramePr/>
          <p:nvPr/>
        </p:nvGraphicFramePr>
        <p:xfrm>
          <a:off x="3816360" y="5432400"/>
          <a:ext cx="1701720" cy="62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16360" y="5432400"/>
                    <a:ext cx="1701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18"/>
          <p:cNvGraphicFramePr/>
          <p:nvPr/>
        </p:nvGraphicFramePr>
        <p:xfrm>
          <a:off x="3825720" y="6156360"/>
          <a:ext cx="124488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25720" y="6156360"/>
                    <a:ext cx="1244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206280" y="152280"/>
          <a:ext cx="4254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52280"/>
                    <a:ext cx="4254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2317680" y="682560"/>
          <a:ext cx="39751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682560"/>
                    <a:ext cx="3975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Group 4"/>
          <p:cNvGrpSpPr/>
          <p:nvPr/>
        </p:nvGrpSpPr>
        <p:grpSpPr>
          <a:xfrm>
            <a:off x="1908000" y="1432080"/>
            <a:ext cx="2994120" cy="2390760"/>
            <a:chOff x="1908000" y="1432080"/>
            <a:chExt cx="2994120" cy="2390760"/>
          </a:xfrm>
        </p:grpSpPr>
        <p:graphicFrame>
          <p:nvGraphicFramePr>
            <p:cNvPr id="467" name="Object 5"/>
            <p:cNvGraphicFramePr/>
            <p:nvPr/>
          </p:nvGraphicFramePr>
          <p:xfrm>
            <a:off x="1939680" y="1432080"/>
            <a:ext cx="20322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39680" y="143208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Object 6"/>
            <p:cNvGraphicFramePr/>
            <p:nvPr/>
          </p:nvGraphicFramePr>
          <p:xfrm>
            <a:off x="1936800" y="1965600"/>
            <a:ext cx="186660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6800" y="196560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Object 7"/>
            <p:cNvGraphicFramePr/>
            <p:nvPr/>
          </p:nvGraphicFramePr>
          <p:xfrm>
            <a:off x="1908000" y="2965680"/>
            <a:ext cx="278136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2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8000" y="296568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Object 8"/>
            <p:cNvGraphicFramePr/>
            <p:nvPr/>
          </p:nvGraphicFramePr>
          <p:xfrm>
            <a:off x="2057400" y="2486160"/>
            <a:ext cx="284472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48616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9"/>
            <p:cNvGraphicFramePr/>
            <p:nvPr/>
          </p:nvGraphicFramePr>
          <p:xfrm>
            <a:off x="2079360" y="3467160"/>
            <a:ext cx="240048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6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79360" y="346716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7" name="Text Box 10"/>
          <p:cNvSpPr/>
          <p:nvPr/>
        </p:nvSpPr>
        <p:spPr>
          <a:xfrm>
            <a:off x="5345280" y="133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5383440" y="240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5231880" y="2905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5229360" y="1889280"/>
          <a:ext cx="76176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29360" y="1889280"/>
                    <a:ext cx="761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4"/>
          <p:cNvGraphicFramePr/>
          <p:nvPr/>
        </p:nvGraphicFramePr>
        <p:xfrm>
          <a:off x="5286240" y="3346560"/>
          <a:ext cx="609840" cy="393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86240" y="3346560"/>
                    <a:ext cx="609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5"/>
          <p:cNvGraphicFramePr/>
          <p:nvPr/>
        </p:nvGraphicFramePr>
        <p:xfrm>
          <a:off x="3730680" y="3854520"/>
          <a:ext cx="128268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0680" y="385452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6"/>
          <p:cNvGraphicFramePr/>
          <p:nvPr/>
        </p:nvGraphicFramePr>
        <p:xfrm>
          <a:off x="3336840" y="4336920"/>
          <a:ext cx="2374920" cy="62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36840" y="4336920"/>
                    <a:ext cx="237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7"/>
          <p:cNvGraphicFramePr/>
          <p:nvPr/>
        </p:nvGraphicFramePr>
        <p:xfrm>
          <a:off x="3327480" y="5022720"/>
          <a:ext cx="2222280" cy="622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7480" y="5022720"/>
                    <a:ext cx="2222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8"/>
          <p:cNvGraphicFramePr/>
          <p:nvPr/>
        </p:nvGraphicFramePr>
        <p:xfrm>
          <a:off x="3321000" y="5689440"/>
          <a:ext cx="1435320" cy="393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1000" y="5689440"/>
                    <a:ext cx="1435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9"/>
          <p:cNvGraphicFramePr/>
          <p:nvPr/>
        </p:nvGraphicFramePr>
        <p:xfrm>
          <a:off x="3483000" y="6232680"/>
          <a:ext cx="1092240" cy="393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83000" y="6232680"/>
                    <a:ext cx="1092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719640" y="277920"/>
            <a:ext cx="70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Insert one geometric mean between ¼ and 4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2672640" y="77328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denotes trick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4"/>
          <p:cNvGraphicFramePr/>
          <p:nvPr/>
        </p:nvGraphicFramePr>
        <p:xfrm>
          <a:off x="3838680" y="1400040"/>
          <a:ext cx="1333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1400040"/>
                    <a:ext cx="1333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8" name="Group 5"/>
          <p:cNvGrpSpPr/>
          <p:nvPr/>
        </p:nvGrpSpPr>
        <p:grpSpPr>
          <a:xfrm>
            <a:off x="2270160" y="2222640"/>
            <a:ext cx="2994120" cy="2390760"/>
            <a:chOff x="2270160" y="2222640"/>
            <a:chExt cx="2994120" cy="2390760"/>
          </a:xfrm>
        </p:grpSpPr>
        <p:graphicFrame>
          <p:nvGraphicFramePr>
            <p:cNvPr id="499" name="Object 6"/>
            <p:cNvGraphicFramePr/>
            <p:nvPr/>
          </p:nvGraphicFramePr>
          <p:xfrm>
            <a:off x="2301840" y="222264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01840" y="222264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Object 7"/>
            <p:cNvGraphicFramePr/>
            <p:nvPr/>
          </p:nvGraphicFramePr>
          <p:xfrm>
            <a:off x="2298960" y="275616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8960" y="275616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3" name="Object 8"/>
            <p:cNvGraphicFramePr/>
            <p:nvPr/>
          </p:nvGraphicFramePr>
          <p:xfrm>
            <a:off x="2270160" y="375624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4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70160" y="375624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9"/>
            <p:cNvGraphicFramePr/>
            <p:nvPr/>
          </p:nvGraphicFramePr>
          <p:xfrm>
            <a:off x="2419560" y="327672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6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9560" y="327672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7" name="Object 10"/>
            <p:cNvGraphicFramePr/>
            <p:nvPr/>
          </p:nvGraphicFramePr>
          <p:xfrm>
            <a:off x="2441520" y="425772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8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41520" y="425772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9" name="Text Box 11"/>
          <p:cNvSpPr/>
          <p:nvPr/>
        </p:nvSpPr>
        <p:spPr>
          <a:xfrm>
            <a:off x="5707080" y="2124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58024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89080" y="36957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14"/>
          <p:cNvGraphicFramePr/>
          <p:nvPr/>
        </p:nvGraphicFramePr>
        <p:xfrm>
          <a:off x="5870520" y="2736720"/>
          <a:ext cx="20340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70520" y="273672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15"/>
          <p:cNvGraphicFramePr/>
          <p:nvPr/>
        </p:nvGraphicFramePr>
        <p:xfrm>
          <a:off x="5880240" y="4292640"/>
          <a:ext cx="203040" cy="21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80240" y="4292640"/>
                    <a:ext cx="2030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16"/>
          <p:cNvGraphicFramePr/>
          <p:nvPr/>
        </p:nvGraphicFramePr>
        <p:xfrm>
          <a:off x="3473280" y="4673520"/>
          <a:ext cx="12830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73280" y="4673520"/>
                    <a:ext cx="1283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17"/>
          <p:cNvGraphicFramePr/>
          <p:nvPr/>
        </p:nvGraphicFramePr>
        <p:xfrm>
          <a:off x="415800" y="5305320"/>
          <a:ext cx="116856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5800" y="5305320"/>
                    <a:ext cx="1168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18"/>
          <p:cNvGraphicFramePr/>
          <p:nvPr/>
        </p:nvGraphicFramePr>
        <p:xfrm>
          <a:off x="1666800" y="5305320"/>
          <a:ext cx="1371600" cy="72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0" y="530532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19"/>
          <p:cNvGraphicFramePr/>
          <p:nvPr/>
        </p:nvGraphicFramePr>
        <p:xfrm>
          <a:off x="3162240" y="5448240"/>
          <a:ext cx="1257480" cy="34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3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5448240"/>
                    <a:ext cx="12574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20"/>
          <p:cNvGraphicFramePr/>
          <p:nvPr/>
        </p:nvGraphicFramePr>
        <p:xfrm>
          <a:off x="4524480" y="5492880"/>
          <a:ext cx="1181160" cy="29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5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24480" y="5492880"/>
                    <a:ext cx="1181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Group 21"/>
          <p:cNvGrpSpPr/>
          <p:nvPr/>
        </p:nvGrpSpPr>
        <p:grpSpPr>
          <a:xfrm>
            <a:off x="5838840" y="5095440"/>
            <a:ext cx="933480" cy="952920"/>
            <a:chOff x="5838840" y="5095440"/>
            <a:chExt cx="933480" cy="952920"/>
          </a:xfrm>
        </p:grpSpPr>
        <p:sp>
          <p:nvSpPr>
            <p:cNvPr id="527" name="Line 22"/>
            <p:cNvSpPr/>
            <p:nvPr/>
          </p:nvSpPr>
          <p:spPr>
            <a:xfrm flipV="1">
              <a:off x="5838840" y="5095440"/>
              <a:ext cx="93348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>
              <a:off x="5867280" y="5648400"/>
              <a:ext cx="857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4"/>
          <p:cNvGrpSpPr/>
          <p:nvPr/>
        </p:nvGrpSpPr>
        <p:grpSpPr>
          <a:xfrm>
            <a:off x="6835680" y="4724280"/>
            <a:ext cx="1054080" cy="1685880"/>
            <a:chOff x="6835680" y="4724280"/>
            <a:chExt cx="1054080" cy="1685880"/>
          </a:xfrm>
        </p:grpSpPr>
        <p:graphicFrame>
          <p:nvGraphicFramePr>
            <p:cNvPr id="530" name="Object 25"/>
            <p:cNvGraphicFramePr/>
            <p:nvPr/>
          </p:nvGraphicFramePr>
          <p:xfrm>
            <a:off x="6861240" y="4724280"/>
            <a:ext cx="812880" cy="723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31" name="Object 2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61240" y="4724280"/>
                      <a:ext cx="8128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Object 26"/>
            <p:cNvGraphicFramePr/>
            <p:nvPr/>
          </p:nvGraphicFramePr>
          <p:xfrm>
            <a:off x="6835680" y="5686560"/>
            <a:ext cx="1054080" cy="723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33" name="Object 2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835680" y="5686560"/>
                      <a:ext cx="10540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8120" y="162000"/>
          <a:ext cx="31878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62000"/>
                    <a:ext cx="3187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6" name="Group 3"/>
          <p:cNvGrpSpPr/>
          <p:nvPr/>
        </p:nvGrpSpPr>
        <p:grpSpPr>
          <a:xfrm>
            <a:off x="2193840" y="1127160"/>
            <a:ext cx="2994120" cy="2390760"/>
            <a:chOff x="2193840" y="1127160"/>
            <a:chExt cx="2994120" cy="2390760"/>
          </a:xfrm>
        </p:grpSpPr>
        <p:graphicFrame>
          <p:nvGraphicFramePr>
            <p:cNvPr id="537" name="Object 4"/>
            <p:cNvGraphicFramePr/>
            <p:nvPr/>
          </p:nvGraphicFramePr>
          <p:xfrm>
            <a:off x="2225520" y="112716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25520" y="112716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Object 5"/>
            <p:cNvGraphicFramePr/>
            <p:nvPr/>
          </p:nvGraphicFramePr>
          <p:xfrm>
            <a:off x="2222640" y="166068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22640" y="166068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1" name="Object 6"/>
            <p:cNvGraphicFramePr/>
            <p:nvPr/>
          </p:nvGraphicFramePr>
          <p:xfrm>
            <a:off x="2193840" y="266076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3840" y="266076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Object 7"/>
            <p:cNvGraphicFramePr/>
            <p:nvPr/>
          </p:nvGraphicFramePr>
          <p:xfrm>
            <a:off x="2343240" y="218124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43240" y="218124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5" name="Object 8"/>
            <p:cNvGraphicFramePr/>
            <p:nvPr/>
          </p:nvGraphicFramePr>
          <p:xfrm>
            <a:off x="2365200" y="316224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6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65200" y="316224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7" name="Text Box 9"/>
          <p:cNvSpPr/>
          <p:nvPr/>
        </p:nvSpPr>
        <p:spPr>
          <a:xfrm>
            <a:off x="5631120" y="1028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5726520" y="21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5735880" y="26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Object 12"/>
          <p:cNvGraphicFramePr/>
          <p:nvPr/>
        </p:nvGraphicFramePr>
        <p:xfrm>
          <a:off x="5715000" y="1641600"/>
          <a:ext cx="45720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1641600"/>
                    <a:ext cx="4572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3"/>
          <p:cNvGraphicFramePr/>
          <p:nvPr/>
        </p:nvGraphicFramePr>
        <p:xfrm>
          <a:off x="6210360" y="2587680"/>
          <a:ext cx="1866960" cy="1473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3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0360" y="258768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4"/>
          <p:cNvGraphicFramePr/>
          <p:nvPr/>
        </p:nvGraphicFramePr>
        <p:xfrm>
          <a:off x="314280" y="3664080"/>
          <a:ext cx="2171880" cy="90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5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4280" y="3664080"/>
                    <a:ext cx="2171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5"/>
          <p:cNvGraphicFramePr/>
          <p:nvPr/>
        </p:nvGraphicFramePr>
        <p:xfrm>
          <a:off x="444600" y="4778280"/>
          <a:ext cx="2463840" cy="177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7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4600" y="4778280"/>
                    <a:ext cx="24638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6"/>
          <p:cNvGraphicFramePr/>
          <p:nvPr/>
        </p:nvGraphicFramePr>
        <p:xfrm>
          <a:off x="3009960" y="4797360"/>
          <a:ext cx="2209680" cy="177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9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09960" y="4797360"/>
                    <a:ext cx="220968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7"/>
          <p:cNvGraphicFramePr/>
          <p:nvPr/>
        </p:nvGraphicFramePr>
        <p:xfrm>
          <a:off x="5302080" y="5467320"/>
          <a:ext cx="673200" cy="723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1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02080" y="5467320"/>
                    <a:ext cx="673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2490480" y="30481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2.3 – Infinit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62520" y="42084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4, 7, 10, 13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95880" y="42876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977880" y="420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92760" y="10396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 7, 11, …,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453840" y="10303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7"/>
          <p:cNvGraphicFramePr/>
          <p:nvPr/>
        </p:nvGraphicFramePr>
        <p:xfrm>
          <a:off x="6699240" y="923760"/>
          <a:ext cx="203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240" y="923760"/>
                    <a:ext cx="203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Text Box 8"/>
          <p:cNvSpPr/>
          <p:nvPr/>
        </p:nvSpPr>
        <p:spPr>
          <a:xfrm>
            <a:off x="401760" y="19922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4, …,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3472560" y="19828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Object 10"/>
          <p:cNvGraphicFramePr/>
          <p:nvPr/>
        </p:nvGraphicFramePr>
        <p:xfrm>
          <a:off x="6667560" y="1739880"/>
          <a:ext cx="1905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560" y="1739880"/>
                    <a:ext cx="1905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 Box 11"/>
          <p:cNvSpPr/>
          <p:nvPr/>
        </p:nvSpPr>
        <p:spPr>
          <a:xfrm>
            <a:off x="449280" y="284940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3377880" y="284940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7035120" y="2859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Object 14"/>
          <p:cNvGraphicFramePr/>
          <p:nvPr/>
        </p:nvGraphicFramePr>
        <p:xfrm>
          <a:off x="431640" y="4572000"/>
          <a:ext cx="176544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4572000"/>
                    <a:ext cx="1765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15"/>
          <p:cNvSpPr/>
          <p:nvPr/>
        </p:nvSpPr>
        <p:spPr>
          <a:xfrm>
            <a:off x="3368520" y="457344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1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Object 16"/>
          <p:cNvGraphicFramePr/>
          <p:nvPr/>
        </p:nvGraphicFramePr>
        <p:xfrm>
          <a:off x="7048440" y="4632480"/>
          <a:ext cx="110484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48440" y="4632480"/>
                    <a:ext cx="110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3968640" y="314280"/>
          <a:ext cx="21970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8640" y="314280"/>
                    <a:ext cx="21970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4"/>
          <p:cNvGraphicFramePr/>
          <p:nvPr/>
        </p:nvGraphicFramePr>
        <p:xfrm>
          <a:off x="2286000" y="1235160"/>
          <a:ext cx="186696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3516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6"/>
          <p:cNvGraphicFramePr/>
          <p:nvPr/>
        </p:nvGraphicFramePr>
        <p:xfrm>
          <a:off x="3121200" y="3044880"/>
          <a:ext cx="2577960" cy="113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1200" y="3044880"/>
                    <a:ext cx="2577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Object 3"/>
          <p:cNvGraphicFramePr/>
          <p:nvPr/>
        </p:nvGraphicFramePr>
        <p:xfrm>
          <a:off x="4010040" y="422280"/>
          <a:ext cx="25909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0040" y="422280"/>
                    <a:ext cx="259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4"/>
          <p:cNvGraphicFramePr/>
          <p:nvPr/>
        </p:nvGraphicFramePr>
        <p:xfrm>
          <a:off x="1117440" y="1530360"/>
          <a:ext cx="30607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7440" y="1530360"/>
                    <a:ext cx="3060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5"/>
          <p:cNvGraphicFramePr/>
          <p:nvPr/>
        </p:nvGraphicFramePr>
        <p:xfrm>
          <a:off x="4406760" y="1797120"/>
          <a:ext cx="23878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06760" y="1797120"/>
                    <a:ext cx="23878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3807000" y="3432240"/>
          <a:ext cx="120636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7000" y="3432240"/>
                    <a:ext cx="120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Object 3"/>
          <p:cNvGraphicFramePr/>
          <p:nvPr/>
        </p:nvGraphicFramePr>
        <p:xfrm>
          <a:off x="3876840" y="314280"/>
          <a:ext cx="2438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6840" y="314280"/>
                    <a:ext cx="2438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4"/>
          <p:cNvGraphicFramePr/>
          <p:nvPr/>
        </p:nvGraphicFramePr>
        <p:xfrm>
          <a:off x="2286000" y="1235160"/>
          <a:ext cx="186696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3516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3089160" y="2873520"/>
          <a:ext cx="2641680" cy="14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9160" y="2873520"/>
                    <a:ext cx="2641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32280" y="39204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–9, -2, 5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5920" y="9446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054080" y="1539720"/>
          <a:ext cx="261612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539720"/>
                    <a:ext cx="2616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878760" y="196380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7 is referred to as the common difference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860760" y="2440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ifference (d) – what we ADD 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78400" y="323064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our terms……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2, 19, 26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70720" y="2970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Object 3"/>
          <p:cNvGraphicFramePr/>
          <p:nvPr/>
        </p:nvGraphicFramePr>
        <p:xfrm>
          <a:off x="3895560" y="142920"/>
          <a:ext cx="179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142920"/>
                    <a:ext cx="179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4"/>
          <p:cNvGraphicFramePr/>
          <p:nvPr/>
        </p:nvGraphicFramePr>
        <p:xfrm>
          <a:off x="2343240" y="1092240"/>
          <a:ext cx="182880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1092240"/>
                    <a:ext cx="18288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4397400" y="1663560"/>
          <a:ext cx="23875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1663560"/>
                    <a:ext cx="23875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6"/>
          <p:cNvGraphicFramePr/>
          <p:nvPr/>
        </p:nvGraphicFramePr>
        <p:xfrm>
          <a:off x="3797280" y="3298680"/>
          <a:ext cx="120636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7280" y="3298680"/>
                    <a:ext cx="120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Object 3"/>
          <p:cNvGraphicFramePr/>
          <p:nvPr/>
        </p:nvGraphicFramePr>
        <p:xfrm>
          <a:off x="3828960" y="324000"/>
          <a:ext cx="182880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8960" y="324000"/>
                    <a:ext cx="18288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4"/>
          <p:cNvGraphicFramePr/>
          <p:nvPr/>
        </p:nvGraphicFramePr>
        <p:xfrm>
          <a:off x="2241720" y="1222200"/>
          <a:ext cx="19555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1720" y="1222200"/>
                    <a:ext cx="1955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3032280" y="3044880"/>
          <a:ext cx="2755800" cy="113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2280" y="3044880"/>
                    <a:ext cx="2755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666800" y="20016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cing Ball Problem – Vers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06720" y="973080"/>
            <a:ext cx="83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 is dropped from a height of 50 feet.  It rebounds 4/5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37680" y="1440000"/>
            <a:ext cx="81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, and continues this pattern until it stops.  How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340200" y="19162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ball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6"/>
          <p:cNvGrpSpPr/>
          <p:nvPr/>
        </p:nvGrpSpPr>
        <p:grpSpPr>
          <a:xfrm>
            <a:off x="523800" y="2230560"/>
            <a:ext cx="5668200" cy="3055680"/>
            <a:chOff x="523800" y="2230560"/>
            <a:chExt cx="5668200" cy="3055680"/>
          </a:xfrm>
        </p:grpSpPr>
        <p:sp>
          <p:nvSpPr>
            <p:cNvPr id="632" name="Line 7"/>
            <p:cNvSpPr/>
            <p:nvPr/>
          </p:nvSpPr>
          <p:spPr>
            <a:xfrm>
              <a:off x="523800" y="2571840"/>
              <a:ext cx="924120" cy="27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8"/>
            <p:cNvSpPr/>
            <p:nvPr/>
          </p:nvSpPr>
          <p:spPr>
            <a:xfrm>
              <a:off x="5672880" y="2230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9"/>
          <p:cNvGrpSpPr/>
          <p:nvPr/>
        </p:nvGrpSpPr>
        <p:grpSpPr>
          <a:xfrm>
            <a:off x="1743120" y="2849400"/>
            <a:ext cx="4429800" cy="2446560"/>
            <a:chOff x="1743120" y="2849400"/>
            <a:chExt cx="4429800" cy="2446560"/>
          </a:xfrm>
        </p:grpSpPr>
        <p:sp>
          <p:nvSpPr>
            <p:cNvPr id="635" name="Line 10"/>
            <p:cNvSpPr/>
            <p:nvPr/>
          </p:nvSpPr>
          <p:spPr>
            <a:xfrm>
              <a:off x="1743120" y="3171960"/>
              <a:ext cx="733320" cy="21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1"/>
            <p:cNvSpPr/>
            <p:nvPr/>
          </p:nvSpPr>
          <p:spPr>
            <a:xfrm>
              <a:off x="5653800" y="2849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12"/>
          <p:cNvGrpSpPr/>
          <p:nvPr/>
        </p:nvGrpSpPr>
        <p:grpSpPr>
          <a:xfrm>
            <a:off x="2828880" y="3478320"/>
            <a:ext cx="3363120" cy="1798560"/>
            <a:chOff x="2828880" y="3478320"/>
            <a:chExt cx="3363120" cy="1798560"/>
          </a:xfrm>
        </p:grpSpPr>
        <p:sp>
          <p:nvSpPr>
            <p:cNvPr id="638" name="Line 13"/>
            <p:cNvSpPr/>
            <p:nvPr/>
          </p:nvSpPr>
          <p:spPr>
            <a:xfrm>
              <a:off x="2828880" y="3705120"/>
              <a:ext cx="60948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4"/>
            <p:cNvSpPr/>
            <p:nvPr/>
          </p:nvSpPr>
          <p:spPr>
            <a:xfrm>
              <a:off x="567288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15"/>
          <p:cNvGrpSpPr/>
          <p:nvPr/>
        </p:nvGrpSpPr>
        <p:grpSpPr>
          <a:xfrm>
            <a:off x="4000680" y="4057560"/>
            <a:ext cx="2445480" cy="1209600"/>
            <a:chOff x="4000680" y="4057560"/>
            <a:chExt cx="2445480" cy="1209600"/>
          </a:xfrm>
        </p:grpSpPr>
        <p:sp>
          <p:nvSpPr>
            <p:cNvPr id="641" name="Line 16"/>
            <p:cNvSpPr/>
            <p:nvPr/>
          </p:nvSpPr>
          <p:spPr>
            <a:xfrm>
              <a:off x="4000680" y="4057560"/>
              <a:ext cx="466560" cy="12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5672520" y="4125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1447920" y="2849400"/>
            <a:ext cx="5906160" cy="2436840"/>
            <a:chOff x="1447920" y="2849400"/>
            <a:chExt cx="5906160" cy="2436840"/>
          </a:xfrm>
        </p:grpSpPr>
        <p:sp>
          <p:nvSpPr>
            <p:cNvPr id="644" name="Line 19"/>
            <p:cNvSpPr/>
            <p:nvPr/>
          </p:nvSpPr>
          <p:spPr>
            <a:xfrm flipV="1">
              <a:off x="1447920" y="3209760"/>
              <a:ext cx="285480" cy="207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0"/>
            <p:cNvSpPr/>
            <p:nvPr/>
          </p:nvSpPr>
          <p:spPr>
            <a:xfrm>
              <a:off x="6834960" y="2849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1"/>
          <p:cNvGrpSpPr/>
          <p:nvPr/>
        </p:nvGrpSpPr>
        <p:grpSpPr>
          <a:xfrm>
            <a:off x="2457360" y="3478320"/>
            <a:ext cx="4915800" cy="1817280"/>
            <a:chOff x="2457360" y="3478320"/>
            <a:chExt cx="4915800" cy="1817280"/>
          </a:xfrm>
        </p:grpSpPr>
        <p:sp>
          <p:nvSpPr>
            <p:cNvPr id="647" name="Line 22"/>
            <p:cNvSpPr/>
            <p:nvPr/>
          </p:nvSpPr>
          <p:spPr>
            <a:xfrm flipV="1">
              <a:off x="2457360" y="3733560"/>
              <a:ext cx="352440" cy="156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23"/>
            <p:cNvSpPr/>
            <p:nvPr/>
          </p:nvSpPr>
          <p:spPr>
            <a:xfrm>
              <a:off x="685404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4"/>
          <p:cNvGrpSpPr/>
          <p:nvPr/>
        </p:nvGrpSpPr>
        <p:grpSpPr>
          <a:xfrm>
            <a:off x="3419640" y="4076640"/>
            <a:ext cx="4207680" cy="1209600"/>
            <a:chOff x="3419640" y="4076640"/>
            <a:chExt cx="4207680" cy="1209600"/>
          </a:xfrm>
        </p:grpSpPr>
        <p:sp>
          <p:nvSpPr>
            <p:cNvPr id="650" name="Line 25"/>
            <p:cNvSpPr/>
            <p:nvPr/>
          </p:nvSpPr>
          <p:spPr>
            <a:xfrm flipV="1">
              <a:off x="3419640" y="4076640"/>
              <a:ext cx="571320" cy="12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"/>
            <p:cNvSpPr/>
            <p:nvPr/>
          </p:nvSpPr>
          <p:spPr>
            <a:xfrm>
              <a:off x="6853680" y="4125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2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2" name="Object 27"/>
          <p:cNvGraphicFramePr/>
          <p:nvPr/>
        </p:nvGraphicFramePr>
        <p:xfrm>
          <a:off x="5289480" y="4927680"/>
          <a:ext cx="302256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9480" y="4927680"/>
                    <a:ext cx="30225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666800" y="20016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cing Ball Problem – Vers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07080" y="9730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 is thrown 100 feet into the air.  It rebounds 3/4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37680" y="1440000"/>
            <a:ext cx="81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, and continues this pattern until it stops.  How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40200" y="19162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ball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6"/>
          <p:cNvGrpSpPr/>
          <p:nvPr/>
        </p:nvGrpSpPr>
        <p:grpSpPr>
          <a:xfrm>
            <a:off x="1743120" y="2849400"/>
            <a:ext cx="4599360" cy="2446560"/>
            <a:chOff x="1743120" y="2849400"/>
            <a:chExt cx="4599360" cy="2446560"/>
          </a:xfrm>
        </p:grpSpPr>
        <p:sp>
          <p:nvSpPr>
            <p:cNvPr id="659" name="Line 7"/>
            <p:cNvSpPr/>
            <p:nvPr/>
          </p:nvSpPr>
          <p:spPr>
            <a:xfrm>
              <a:off x="1743120" y="3171960"/>
              <a:ext cx="733320" cy="21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8"/>
            <p:cNvSpPr/>
            <p:nvPr/>
          </p:nvSpPr>
          <p:spPr>
            <a:xfrm>
              <a:off x="5654160" y="2849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9"/>
          <p:cNvGrpSpPr/>
          <p:nvPr/>
        </p:nvGrpSpPr>
        <p:grpSpPr>
          <a:xfrm>
            <a:off x="2828880" y="3478320"/>
            <a:ext cx="3363120" cy="1798560"/>
            <a:chOff x="2828880" y="3478320"/>
            <a:chExt cx="3363120" cy="1798560"/>
          </a:xfrm>
        </p:grpSpPr>
        <p:sp>
          <p:nvSpPr>
            <p:cNvPr id="662" name="Line 10"/>
            <p:cNvSpPr/>
            <p:nvPr/>
          </p:nvSpPr>
          <p:spPr>
            <a:xfrm>
              <a:off x="2828880" y="3705120"/>
              <a:ext cx="60948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1"/>
            <p:cNvSpPr/>
            <p:nvPr/>
          </p:nvSpPr>
          <p:spPr>
            <a:xfrm>
              <a:off x="567288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12"/>
          <p:cNvGrpSpPr/>
          <p:nvPr/>
        </p:nvGrpSpPr>
        <p:grpSpPr>
          <a:xfrm>
            <a:off x="4000680" y="4057560"/>
            <a:ext cx="2615040" cy="1209600"/>
            <a:chOff x="4000680" y="4057560"/>
            <a:chExt cx="2615040" cy="1209600"/>
          </a:xfrm>
        </p:grpSpPr>
        <p:sp>
          <p:nvSpPr>
            <p:cNvPr id="665" name="Line 13"/>
            <p:cNvSpPr/>
            <p:nvPr/>
          </p:nvSpPr>
          <p:spPr>
            <a:xfrm>
              <a:off x="4000680" y="4057560"/>
              <a:ext cx="466560" cy="12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4"/>
            <p:cNvSpPr/>
            <p:nvPr/>
          </p:nvSpPr>
          <p:spPr>
            <a:xfrm>
              <a:off x="5672880" y="41259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5"/>
          <p:cNvGrpSpPr/>
          <p:nvPr/>
        </p:nvGrpSpPr>
        <p:grpSpPr>
          <a:xfrm>
            <a:off x="1447920" y="2849400"/>
            <a:ext cx="6075360" cy="2436840"/>
            <a:chOff x="1447920" y="2849400"/>
            <a:chExt cx="6075360" cy="2436840"/>
          </a:xfrm>
        </p:grpSpPr>
        <p:sp>
          <p:nvSpPr>
            <p:cNvPr id="668" name="Line 16"/>
            <p:cNvSpPr/>
            <p:nvPr/>
          </p:nvSpPr>
          <p:spPr>
            <a:xfrm flipV="1">
              <a:off x="1447920" y="3209760"/>
              <a:ext cx="285480" cy="207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6834960" y="2849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18"/>
          <p:cNvGrpSpPr/>
          <p:nvPr/>
        </p:nvGrpSpPr>
        <p:grpSpPr>
          <a:xfrm>
            <a:off x="2457360" y="3478320"/>
            <a:ext cx="4915800" cy="1817280"/>
            <a:chOff x="2457360" y="3478320"/>
            <a:chExt cx="4915800" cy="1817280"/>
          </a:xfrm>
        </p:grpSpPr>
        <p:sp>
          <p:nvSpPr>
            <p:cNvPr id="671" name="Line 19"/>
            <p:cNvSpPr/>
            <p:nvPr/>
          </p:nvSpPr>
          <p:spPr>
            <a:xfrm flipV="1">
              <a:off x="2457360" y="3733560"/>
              <a:ext cx="352440" cy="156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0"/>
            <p:cNvSpPr/>
            <p:nvPr/>
          </p:nvSpPr>
          <p:spPr>
            <a:xfrm>
              <a:off x="685404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Group 21"/>
          <p:cNvGrpSpPr/>
          <p:nvPr/>
        </p:nvGrpSpPr>
        <p:grpSpPr>
          <a:xfrm>
            <a:off x="3419640" y="4076640"/>
            <a:ext cx="4377240" cy="1209600"/>
            <a:chOff x="3419640" y="4076640"/>
            <a:chExt cx="4377240" cy="1209600"/>
          </a:xfrm>
        </p:grpSpPr>
        <p:sp>
          <p:nvSpPr>
            <p:cNvPr id="674" name="Line 22"/>
            <p:cNvSpPr/>
            <p:nvPr/>
          </p:nvSpPr>
          <p:spPr>
            <a:xfrm flipV="1">
              <a:off x="3419640" y="4076640"/>
              <a:ext cx="571320" cy="12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3"/>
            <p:cNvSpPr/>
            <p:nvPr/>
          </p:nvSpPr>
          <p:spPr>
            <a:xfrm>
              <a:off x="6854040" y="41259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25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6" name="Object 24"/>
          <p:cNvGraphicFramePr/>
          <p:nvPr/>
        </p:nvGraphicFramePr>
        <p:xfrm>
          <a:off x="5295960" y="4927680"/>
          <a:ext cx="300996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4927680"/>
                    <a:ext cx="30099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280320" y="2971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Object 2"/>
          <p:cNvGraphicFramePr/>
          <p:nvPr/>
        </p:nvGraphicFramePr>
        <p:xfrm>
          <a:off x="3657600" y="2514600"/>
          <a:ext cx="133344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514600"/>
                    <a:ext cx="133344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1" name="Group 3"/>
          <p:cNvGrpSpPr/>
          <p:nvPr/>
        </p:nvGrpSpPr>
        <p:grpSpPr>
          <a:xfrm>
            <a:off x="3505320" y="914400"/>
            <a:ext cx="2590560" cy="1219320"/>
            <a:chOff x="3505320" y="914400"/>
            <a:chExt cx="2590560" cy="1219320"/>
          </a:xfrm>
        </p:grpSpPr>
        <p:sp>
          <p:nvSpPr>
            <p:cNvPr id="682" name="AutoShape 4"/>
            <p:cNvSpPr/>
            <p:nvPr/>
          </p:nvSpPr>
          <p:spPr>
            <a:xfrm>
              <a:off x="3505320" y="914400"/>
              <a:ext cx="2590560" cy="1219320"/>
            </a:xfrm>
            <a:prstGeom prst="wedgeEllipseCallout">
              <a:avLst>
                <a:gd name="adj1" fmla="val -23162"/>
                <a:gd name="adj2" fmla="val 842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5"/>
            <p:cNvSpPr/>
            <p:nvPr/>
          </p:nvSpPr>
          <p:spPr>
            <a:xfrm>
              <a:off x="3585600" y="1143000"/>
              <a:ext cx="24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UPPER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6"/>
          <p:cNvGrpSpPr/>
          <p:nvPr/>
        </p:nvGrpSpPr>
        <p:grpSpPr>
          <a:xfrm>
            <a:off x="4114800" y="4572000"/>
            <a:ext cx="2590920" cy="1219320"/>
            <a:chOff x="4114800" y="4572000"/>
            <a:chExt cx="2590920" cy="1219320"/>
          </a:xfrm>
        </p:grpSpPr>
        <p:sp>
          <p:nvSpPr>
            <p:cNvPr id="685" name="AutoShape 7"/>
            <p:cNvSpPr/>
            <p:nvPr/>
          </p:nvSpPr>
          <p:spPr>
            <a:xfrm>
              <a:off x="4114800" y="4572000"/>
              <a:ext cx="2590920" cy="1219320"/>
            </a:xfrm>
            <a:prstGeom prst="wedgeEllipseCallout">
              <a:avLst>
                <a:gd name="adj1" fmla="val -48898"/>
                <a:gd name="adj2" fmla="val -85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8"/>
            <p:cNvSpPr/>
            <p:nvPr/>
          </p:nvSpPr>
          <p:spPr>
            <a:xfrm>
              <a:off x="4161960" y="4800600"/>
              <a:ext cx="248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OWER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9"/>
          <p:cNvGrpSpPr/>
          <p:nvPr/>
        </p:nvGrpSpPr>
        <p:grpSpPr>
          <a:xfrm>
            <a:off x="457200" y="2666880"/>
            <a:ext cx="3200400" cy="1447920"/>
            <a:chOff x="457200" y="2666880"/>
            <a:chExt cx="3200400" cy="1447920"/>
          </a:xfrm>
        </p:grpSpPr>
        <p:sp>
          <p:nvSpPr>
            <p:cNvPr id="688" name="AutoShape 10"/>
            <p:cNvSpPr/>
            <p:nvPr/>
          </p:nvSpPr>
          <p:spPr>
            <a:xfrm>
              <a:off x="457200" y="2666880"/>
              <a:ext cx="3200400" cy="1447920"/>
            </a:xfrm>
            <a:prstGeom prst="wedgeEllipseCallout">
              <a:avLst>
                <a:gd name="adj1" fmla="val 54166"/>
                <a:gd name="adj2" fmla="val -4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692640" y="2895480"/>
              <a:ext cx="272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SIG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SUM OF TER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12"/>
          <p:cNvGrpSpPr/>
          <p:nvPr/>
        </p:nvGrpSpPr>
        <p:grpSpPr>
          <a:xfrm>
            <a:off x="5257800" y="3048120"/>
            <a:ext cx="2590920" cy="1218960"/>
            <a:chOff x="5257800" y="3048120"/>
            <a:chExt cx="2590920" cy="1218960"/>
          </a:xfrm>
        </p:grpSpPr>
        <p:sp>
          <p:nvSpPr>
            <p:cNvPr id="691" name="AutoShape 13"/>
            <p:cNvSpPr/>
            <p:nvPr/>
          </p:nvSpPr>
          <p:spPr>
            <a:xfrm>
              <a:off x="5257800" y="3048120"/>
              <a:ext cx="2590920" cy="1218960"/>
            </a:xfrm>
            <a:prstGeom prst="wedgeEllipseCallout">
              <a:avLst>
                <a:gd name="adj1" fmla="val -65439"/>
                <a:gd name="adj2" fmla="val -3216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4"/>
            <p:cNvSpPr/>
            <p:nvPr/>
          </p:nvSpPr>
          <p:spPr>
            <a:xfrm>
              <a:off x="5500800" y="3276720"/>
              <a:ext cx="209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TH 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SEQUEN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Object 2"/>
          <p:cNvGraphicFramePr/>
          <p:nvPr/>
        </p:nvGraphicFramePr>
        <p:xfrm>
          <a:off x="228600" y="228600"/>
          <a:ext cx="11685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168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"/>
          <p:cNvGraphicFramePr/>
          <p:nvPr/>
        </p:nvGraphicFramePr>
        <p:xfrm>
          <a:off x="1447920" y="406440"/>
          <a:ext cx="10792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06440"/>
                    <a:ext cx="1079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4"/>
          <p:cNvGraphicFramePr/>
          <p:nvPr/>
        </p:nvGraphicFramePr>
        <p:xfrm>
          <a:off x="2577960" y="403200"/>
          <a:ext cx="11304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7960" y="403200"/>
                    <a:ext cx="1130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5"/>
          <p:cNvGraphicFramePr/>
          <p:nvPr/>
        </p:nvGraphicFramePr>
        <p:xfrm>
          <a:off x="3768840" y="403200"/>
          <a:ext cx="11300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68840" y="403200"/>
                    <a:ext cx="113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6"/>
          <p:cNvGraphicFramePr/>
          <p:nvPr/>
        </p:nvGraphicFramePr>
        <p:xfrm>
          <a:off x="4959360" y="412920"/>
          <a:ext cx="11304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9360" y="412920"/>
                    <a:ext cx="1130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3" name="Group 7"/>
          <p:cNvGrpSpPr/>
          <p:nvPr/>
        </p:nvGrpSpPr>
        <p:grpSpPr>
          <a:xfrm>
            <a:off x="6178680" y="409680"/>
            <a:ext cx="631800" cy="399960"/>
            <a:chOff x="6178680" y="409680"/>
            <a:chExt cx="631800" cy="399960"/>
          </a:xfrm>
        </p:grpSpPr>
        <p:graphicFrame>
          <p:nvGraphicFramePr>
            <p:cNvPr id="704" name="Object 8"/>
            <p:cNvGraphicFramePr/>
            <p:nvPr/>
          </p:nvGraphicFramePr>
          <p:xfrm>
            <a:off x="6178680" y="453960"/>
            <a:ext cx="596880" cy="29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8680" y="453960"/>
                      <a:ext cx="59688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Rectangle 9"/>
            <p:cNvSpPr/>
            <p:nvPr/>
          </p:nvSpPr>
          <p:spPr>
            <a:xfrm>
              <a:off x="6381720" y="409680"/>
              <a:ext cx="428760" cy="39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7" name="Object 10"/>
          <p:cNvGraphicFramePr/>
          <p:nvPr/>
        </p:nvGraphicFramePr>
        <p:xfrm>
          <a:off x="222120" y="2308320"/>
          <a:ext cx="96516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2120" y="2308320"/>
                    <a:ext cx="965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1"/>
          <p:cNvGraphicFramePr/>
          <p:nvPr/>
        </p:nvGraphicFramePr>
        <p:xfrm>
          <a:off x="1292400" y="2473200"/>
          <a:ext cx="113004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2400" y="2473200"/>
                    <a:ext cx="113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2"/>
          <p:cNvGraphicFramePr/>
          <p:nvPr/>
        </p:nvGraphicFramePr>
        <p:xfrm>
          <a:off x="2476440" y="2473200"/>
          <a:ext cx="110484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76440" y="2473200"/>
                    <a:ext cx="11048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3"/>
          <p:cNvGraphicFramePr/>
          <p:nvPr/>
        </p:nvGraphicFramePr>
        <p:xfrm>
          <a:off x="3632040" y="2492280"/>
          <a:ext cx="111780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2040" y="2492280"/>
                    <a:ext cx="1117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14"/>
          <p:cNvGraphicFramePr/>
          <p:nvPr/>
        </p:nvGraphicFramePr>
        <p:xfrm>
          <a:off x="4803840" y="2482920"/>
          <a:ext cx="1117440" cy="48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03840" y="2482920"/>
                    <a:ext cx="1117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7" name="Group 15"/>
          <p:cNvGrpSpPr/>
          <p:nvPr/>
        </p:nvGrpSpPr>
        <p:grpSpPr>
          <a:xfrm>
            <a:off x="5956200" y="2457360"/>
            <a:ext cx="758880" cy="447840"/>
            <a:chOff x="5956200" y="2457360"/>
            <a:chExt cx="758880" cy="447840"/>
          </a:xfrm>
        </p:grpSpPr>
        <p:graphicFrame>
          <p:nvGraphicFramePr>
            <p:cNvPr id="718" name="Object 16"/>
            <p:cNvGraphicFramePr/>
            <p:nvPr/>
          </p:nvGraphicFramePr>
          <p:xfrm>
            <a:off x="5956200" y="2556000"/>
            <a:ext cx="62244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19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956200" y="2556000"/>
                      <a:ext cx="622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Rectangle 17"/>
            <p:cNvSpPr/>
            <p:nvPr/>
          </p:nvSpPr>
          <p:spPr>
            <a:xfrm>
              <a:off x="6172200" y="2457360"/>
              <a:ext cx="54288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Object 18"/>
          <p:cNvGraphicFramePr/>
          <p:nvPr/>
        </p:nvGraphicFramePr>
        <p:xfrm>
          <a:off x="92160" y="4251240"/>
          <a:ext cx="1638360" cy="812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2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2160" y="4251240"/>
                    <a:ext cx="1638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19"/>
          <p:cNvGraphicFramePr/>
          <p:nvPr/>
        </p:nvGraphicFramePr>
        <p:xfrm>
          <a:off x="1717560" y="4397400"/>
          <a:ext cx="1536840" cy="507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4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17560" y="4397400"/>
                    <a:ext cx="1536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20"/>
          <p:cNvGraphicFramePr/>
          <p:nvPr/>
        </p:nvGraphicFramePr>
        <p:xfrm>
          <a:off x="3254400" y="4397400"/>
          <a:ext cx="1473120" cy="507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6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54400" y="4397400"/>
                    <a:ext cx="1473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21"/>
          <p:cNvGraphicFramePr/>
          <p:nvPr/>
        </p:nvGraphicFramePr>
        <p:xfrm>
          <a:off x="4708440" y="4387680"/>
          <a:ext cx="1498680" cy="50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28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08440" y="4387680"/>
                    <a:ext cx="149868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22"/>
          <p:cNvGraphicFramePr/>
          <p:nvPr/>
        </p:nvGraphicFramePr>
        <p:xfrm>
          <a:off x="6175440" y="4378320"/>
          <a:ext cx="1498680" cy="507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30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175440" y="4378320"/>
                    <a:ext cx="1498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3"/>
          <p:cNvGraphicFramePr/>
          <p:nvPr/>
        </p:nvGraphicFramePr>
        <p:xfrm>
          <a:off x="7632720" y="4368960"/>
          <a:ext cx="1511280" cy="507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32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32720" y="4368960"/>
                    <a:ext cx="15112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Group 24"/>
          <p:cNvGrpSpPr/>
          <p:nvPr/>
        </p:nvGrpSpPr>
        <p:grpSpPr>
          <a:xfrm>
            <a:off x="1704960" y="5019840"/>
            <a:ext cx="974520" cy="447480"/>
            <a:chOff x="1704960" y="5019840"/>
            <a:chExt cx="974520" cy="447480"/>
          </a:xfrm>
        </p:grpSpPr>
        <p:graphicFrame>
          <p:nvGraphicFramePr>
            <p:cNvPr id="734" name="Object 25"/>
            <p:cNvGraphicFramePr/>
            <p:nvPr/>
          </p:nvGraphicFramePr>
          <p:xfrm>
            <a:off x="1704960" y="5111640"/>
            <a:ext cx="863640" cy="2923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35" name="Object 25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1704960" y="5111640"/>
                      <a:ext cx="863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Rectangle 26"/>
            <p:cNvSpPr/>
            <p:nvPr/>
          </p:nvSpPr>
          <p:spPr>
            <a:xfrm>
              <a:off x="1917720" y="5019840"/>
              <a:ext cx="76176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184320" y="247680"/>
          <a:ext cx="1498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47680"/>
                    <a:ext cx="1498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1739880" y="257040"/>
          <a:ext cx="86364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9880" y="257040"/>
                    <a:ext cx="8636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4"/>
          <p:cNvGraphicFramePr/>
          <p:nvPr/>
        </p:nvGraphicFramePr>
        <p:xfrm>
          <a:off x="2685960" y="266760"/>
          <a:ext cx="10670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5960" y="266760"/>
                    <a:ext cx="1067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5"/>
          <p:cNvGraphicFramePr/>
          <p:nvPr/>
        </p:nvGraphicFramePr>
        <p:xfrm>
          <a:off x="3876840" y="257040"/>
          <a:ext cx="110484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6840" y="257040"/>
                    <a:ext cx="11048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086440" y="596880"/>
          <a:ext cx="49536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6440" y="596880"/>
                    <a:ext cx="49536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7"/>
          <p:cNvGraphicFramePr/>
          <p:nvPr/>
        </p:nvGraphicFramePr>
        <p:xfrm>
          <a:off x="2095560" y="1374840"/>
          <a:ext cx="1104840" cy="73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95560" y="1374840"/>
                    <a:ext cx="110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8"/>
          <p:cNvGraphicFramePr/>
          <p:nvPr/>
        </p:nvGraphicFramePr>
        <p:xfrm>
          <a:off x="3301920" y="1403280"/>
          <a:ext cx="1587600" cy="111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1920" y="1403280"/>
                    <a:ext cx="1587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9"/>
          <p:cNvGraphicFramePr/>
          <p:nvPr/>
        </p:nvGraphicFramePr>
        <p:xfrm>
          <a:off x="181080" y="3209760"/>
          <a:ext cx="1371600" cy="80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1080" y="3209760"/>
                    <a:ext cx="1371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10"/>
          <p:cNvGraphicFramePr/>
          <p:nvPr/>
        </p:nvGraphicFramePr>
        <p:xfrm>
          <a:off x="1609560" y="3359160"/>
          <a:ext cx="682020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9560" y="3359160"/>
                    <a:ext cx="6820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11"/>
          <p:cNvGraphicFramePr/>
          <p:nvPr/>
        </p:nvGraphicFramePr>
        <p:xfrm>
          <a:off x="1181160" y="3971880"/>
          <a:ext cx="483876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81160" y="3971880"/>
                    <a:ext cx="4838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12"/>
          <p:cNvGraphicFramePr/>
          <p:nvPr/>
        </p:nvGraphicFramePr>
        <p:xfrm>
          <a:off x="6130800" y="4178160"/>
          <a:ext cx="787680" cy="29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5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0800" y="4178160"/>
                    <a:ext cx="7876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9" name="Object 2"/>
          <p:cNvGraphicFramePr/>
          <p:nvPr/>
        </p:nvGraphicFramePr>
        <p:xfrm>
          <a:off x="260280" y="279360"/>
          <a:ext cx="14223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79360"/>
                    <a:ext cx="1422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3"/>
          <p:cNvGraphicFramePr/>
          <p:nvPr/>
        </p:nvGraphicFramePr>
        <p:xfrm>
          <a:off x="1768320" y="434880"/>
          <a:ext cx="70740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8320" y="434880"/>
                    <a:ext cx="7074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4"/>
          <p:cNvGraphicFramePr/>
          <p:nvPr/>
        </p:nvGraphicFramePr>
        <p:xfrm>
          <a:off x="1384200" y="1162080"/>
          <a:ext cx="48135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1162080"/>
                    <a:ext cx="4813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5"/>
          <p:cNvGraphicFramePr/>
          <p:nvPr/>
        </p:nvGraphicFramePr>
        <p:xfrm>
          <a:off x="6321600" y="1368360"/>
          <a:ext cx="787320" cy="2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1600" y="1368360"/>
                    <a:ext cx="7873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270720" y="20160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3 + 6 + 9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3156840" y="8017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ithmetic, d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3257640" y="1355760"/>
          <a:ext cx="22096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7640" y="13557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5"/>
          <p:cNvGraphicFramePr/>
          <p:nvPr/>
        </p:nvGraphicFramePr>
        <p:xfrm>
          <a:off x="3257640" y="1946160"/>
          <a:ext cx="20955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194616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6"/>
          <p:cNvGraphicFramePr/>
          <p:nvPr/>
        </p:nvGraphicFramePr>
        <p:xfrm>
          <a:off x="3232080" y="2549520"/>
          <a:ext cx="965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2080" y="2549520"/>
                    <a:ext cx="965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7"/>
          <p:cNvGraphicFramePr/>
          <p:nvPr/>
        </p:nvGraphicFramePr>
        <p:xfrm>
          <a:off x="3882960" y="3105000"/>
          <a:ext cx="71136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2960" y="3105000"/>
                    <a:ext cx="711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7880" y="1825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0, 7, 14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81280" y="89676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27720" y="146844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1, 28, 35,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0" y="20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51000" y="227808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x, 2x, 3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976320" y="28209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22040" y="34210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x, 5x, 6x, 7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0" y="4057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17240" y="408780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5k, -k, -7k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033200" y="4716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-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079640" y="5316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13k, -19k, -25k, -3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250920" y="22068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16 + 8 + 4 + 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3153960" y="80172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metric, r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Object 4"/>
          <p:cNvGraphicFramePr/>
          <p:nvPr/>
        </p:nvGraphicFramePr>
        <p:xfrm>
          <a:off x="3625920" y="1368360"/>
          <a:ext cx="1282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5920" y="13683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5"/>
          <p:cNvGraphicFramePr/>
          <p:nvPr/>
        </p:nvGraphicFramePr>
        <p:xfrm>
          <a:off x="3619440" y="1733400"/>
          <a:ext cx="179064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9440" y="1733400"/>
                    <a:ext cx="17906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6"/>
          <p:cNvGraphicFramePr/>
          <p:nvPr/>
        </p:nvGraphicFramePr>
        <p:xfrm>
          <a:off x="3638520" y="2838600"/>
          <a:ext cx="15620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8520" y="2838600"/>
                    <a:ext cx="1562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251640" y="22068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19 + 18 + 16 + 12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2518200" y="80172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Arithmetic, Not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Object 4"/>
          <p:cNvGraphicFramePr/>
          <p:nvPr/>
        </p:nvGraphicFramePr>
        <p:xfrm>
          <a:off x="3718080" y="2349360"/>
          <a:ext cx="1726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2349360"/>
                    <a:ext cx="1726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5"/>
          <p:cNvGraphicFramePr/>
          <p:nvPr/>
        </p:nvGraphicFramePr>
        <p:xfrm>
          <a:off x="3743280" y="3057480"/>
          <a:ext cx="148608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3057480"/>
                    <a:ext cx="1486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6"/>
          <p:cNvSpPr/>
          <p:nvPr/>
        </p:nvSpPr>
        <p:spPr>
          <a:xfrm>
            <a:off x="3040560" y="1316160"/>
            <a:ext cx="30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+ 18 + 16 + 12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     -2     -4   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267120" y="268200"/>
            <a:ext cx="59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the following using sigma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Object 3"/>
          <p:cNvGraphicFramePr/>
          <p:nvPr/>
        </p:nvGraphicFramePr>
        <p:xfrm>
          <a:off x="6232680" y="142920"/>
          <a:ext cx="2108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142920"/>
                    <a:ext cx="2108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Text Box 4"/>
          <p:cNvSpPr/>
          <p:nvPr/>
        </p:nvSpPr>
        <p:spPr>
          <a:xfrm>
            <a:off x="2253600" y="1039680"/>
            <a:ext cx="44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umerator is geometric, r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nominator is arithmetic d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444240" y="21826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Object 6"/>
          <p:cNvGraphicFramePr/>
          <p:nvPr/>
        </p:nvGraphicFramePr>
        <p:xfrm>
          <a:off x="2685960" y="2171880"/>
          <a:ext cx="373392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5960" y="2171880"/>
                    <a:ext cx="3733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Text Box 7"/>
          <p:cNvSpPr/>
          <p:nvPr/>
        </p:nvSpPr>
        <p:spPr>
          <a:xfrm>
            <a:off x="414720" y="290664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Object 8"/>
          <p:cNvGraphicFramePr/>
          <p:nvPr/>
        </p:nvGraphicFramePr>
        <p:xfrm>
          <a:off x="2971800" y="2965320"/>
          <a:ext cx="582948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965320"/>
                    <a:ext cx="5829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9"/>
          <p:cNvSpPr/>
          <p:nvPr/>
        </p:nvSpPr>
        <p:spPr>
          <a:xfrm>
            <a:off x="421200" y="40021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Object 10"/>
          <p:cNvGraphicFramePr/>
          <p:nvPr/>
        </p:nvGraphicFramePr>
        <p:xfrm>
          <a:off x="3305160" y="3759120"/>
          <a:ext cx="133344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05160" y="3759120"/>
                    <a:ext cx="13334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809720" y="2109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of Sequences (Uni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174840" y="844560"/>
          <a:ext cx="20322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844560"/>
                    <a:ext cx="2032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4"/>
          <p:cNvGraphicFramePr/>
          <p:nvPr/>
        </p:nvGraphicFramePr>
        <p:xfrm>
          <a:off x="3171960" y="1378080"/>
          <a:ext cx="1866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1378080"/>
                    <a:ext cx="1866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3143160" y="2378160"/>
          <a:ext cx="27813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2378160"/>
                    <a:ext cx="2781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3292560" y="1898640"/>
          <a:ext cx="2844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2560" y="1898640"/>
                    <a:ext cx="284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7"/>
          <p:cNvGraphicFramePr/>
          <p:nvPr/>
        </p:nvGraphicFramePr>
        <p:xfrm>
          <a:off x="3279600" y="2879640"/>
          <a:ext cx="321336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9600" y="2879640"/>
                    <a:ext cx="3213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8"/>
          <p:cNvGraphicFramePr/>
          <p:nvPr/>
        </p:nvGraphicFramePr>
        <p:xfrm>
          <a:off x="523800" y="3575160"/>
          <a:ext cx="7581960" cy="126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800" y="3575160"/>
                    <a:ext cx="75819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5720" y="277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arithmetic sequenc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5025960" y="361800"/>
          <a:ext cx="35686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361800"/>
                    <a:ext cx="3568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4"/>
          <p:cNvGrpSpPr/>
          <p:nvPr/>
        </p:nvGrpSpPr>
        <p:grpSpPr>
          <a:xfrm>
            <a:off x="1971720" y="939960"/>
            <a:ext cx="3349440" cy="2390760"/>
            <a:chOff x="1971720" y="939960"/>
            <a:chExt cx="3349440" cy="2390760"/>
          </a:xfrm>
        </p:grpSpPr>
        <p:graphicFrame>
          <p:nvGraphicFramePr>
            <p:cNvPr id="103" name="Object 5"/>
            <p:cNvGraphicFramePr/>
            <p:nvPr/>
          </p:nvGraphicFramePr>
          <p:xfrm>
            <a:off x="2003400" y="93996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3400" y="93996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6"/>
            <p:cNvGraphicFramePr/>
            <p:nvPr/>
          </p:nvGraphicFramePr>
          <p:xfrm>
            <a:off x="2000160" y="147312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00160" y="147312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7"/>
            <p:cNvGraphicFramePr/>
            <p:nvPr/>
          </p:nvGraphicFramePr>
          <p:xfrm>
            <a:off x="1971720" y="247320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71720" y="247320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Object 8"/>
            <p:cNvGraphicFramePr/>
            <p:nvPr/>
          </p:nvGraphicFramePr>
          <p:xfrm>
            <a:off x="2120760" y="199404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0760" y="199404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9"/>
            <p:cNvGraphicFramePr/>
            <p:nvPr/>
          </p:nvGraphicFramePr>
          <p:xfrm>
            <a:off x="2108160" y="297504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08160" y="297504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Text Box 10"/>
          <p:cNvSpPr/>
          <p:nvPr/>
        </p:nvSpPr>
        <p:spPr>
          <a:xfrm>
            <a:off x="1366920" y="8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262880" y="1897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281600" y="139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253520" y="2373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271520" y="289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3181320" y="3546360"/>
          <a:ext cx="220968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81320" y="3546360"/>
                    <a:ext cx="2209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3127320" y="4108320"/>
          <a:ext cx="271800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7320" y="4108320"/>
                    <a:ext cx="271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7"/>
          <p:cNvSpPr/>
          <p:nvPr/>
        </p:nvSpPr>
        <p:spPr>
          <a:xfrm>
            <a:off x="3128400" y="47926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60280" y="266760"/>
          <a:ext cx="3479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66760"/>
                    <a:ext cx="3479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3"/>
          <p:cNvGrpSpPr/>
          <p:nvPr/>
        </p:nvGrpSpPr>
        <p:grpSpPr>
          <a:xfrm>
            <a:off x="2733840" y="911160"/>
            <a:ext cx="3349440" cy="2390760"/>
            <a:chOff x="2733840" y="911160"/>
            <a:chExt cx="3349440" cy="2390760"/>
          </a:xfrm>
        </p:grpSpPr>
        <p:graphicFrame>
          <p:nvGraphicFramePr>
            <p:cNvPr id="126" name="Object 4"/>
            <p:cNvGraphicFramePr/>
            <p:nvPr/>
          </p:nvGraphicFramePr>
          <p:xfrm>
            <a:off x="2765520" y="91116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5520" y="91116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5"/>
            <p:cNvGraphicFramePr/>
            <p:nvPr/>
          </p:nvGraphicFramePr>
          <p:xfrm>
            <a:off x="2762280" y="144432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62280" y="144432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6"/>
            <p:cNvGraphicFramePr/>
            <p:nvPr/>
          </p:nvGraphicFramePr>
          <p:xfrm>
            <a:off x="2733840" y="244440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33840" y="244440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7"/>
            <p:cNvGraphicFramePr/>
            <p:nvPr/>
          </p:nvGraphicFramePr>
          <p:xfrm>
            <a:off x="2882880" y="196524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82880" y="196524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8"/>
            <p:cNvGraphicFramePr/>
            <p:nvPr/>
          </p:nvGraphicFramePr>
          <p:xfrm>
            <a:off x="2870280" y="294624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0280" y="294624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9"/>
          <p:cNvSpPr/>
          <p:nvPr/>
        </p:nvSpPr>
        <p:spPr>
          <a:xfrm>
            <a:off x="1977120" y="83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996200" y="1868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967400" y="1363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071800" y="234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034000" y="286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14"/>
          <p:cNvGraphicFramePr/>
          <p:nvPr/>
        </p:nvGraphicFramePr>
        <p:xfrm>
          <a:off x="638280" y="3994200"/>
          <a:ext cx="220968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8280" y="399420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5"/>
          <p:cNvGraphicFramePr/>
          <p:nvPr/>
        </p:nvGraphicFramePr>
        <p:xfrm>
          <a:off x="679320" y="4600440"/>
          <a:ext cx="290844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9320" y="4600440"/>
                    <a:ext cx="2908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6"/>
          <p:cNvSpPr/>
          <p:nvPr/>
        </p:nvSpPr>
        <p:spPr>
          <a:xfrm>
            <a:off x="1072440" y="1344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7"/>
          <p:cNvGraphicFramePr/>
          <p:nvPr/>
        </p:nvGraphicFramePr>
        <p:xfrm>
          <a:off x="4984920" y="3857760"/>
          <a:ext cx="2031840" cy="723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84920" y="3857760"/>
                    <a:ext cx="2031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8"/>
          <p:cNvGraphicFramePr/>
          <p:nvPr/>
        </p:nvGraphicFramePr>
        <p:xfrm>
          <a:off x="4927680" y="4686480"/>
          <a:ext cx="2755800" cy="723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27680" y="4686480"/>
                    <a:ext cx="27558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9"/>
          <p:cNvGraphicFramePr/>
          <p:nvPr/>
        </p:nvGraphicFramePr>
        <p:xfrm>
          <a:off x="4962600" y="5619600"/>
          <a:ext cx="1562040" cy="38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62600" y="5619600"/>
                    <a:ext cx="1562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924200" y="152280"/>
          <a:ext cx="39240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52280"/>
                    <a:ext cx="3924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80280" y="777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500560" y="677880"/>
            <a:ext cx="4106520" cy="2488680"/>
            <a:chOff x="2500560" y="677880"/>
            <a:chExt cx="4106520" cy="2488680"/>
          </a:xfrm>
        </p:grpSpPr>
        <p:grpSp>
          <p:nvGrpSpPr>
            <p:cNvPr id="156" name="Group 5"/>
            <p:cNvGrpSpPr/>
            <p:nvPr/>
          </p:nvGrpSpPr>
          <p:grpSpPr>
            <a:xfrm>
              <a:off x="3257640" y="749160"/>
              <a:ext cx="3349440" cy="2390760"/>
              <a:chOff x="3257640" y="749160"/>
              <a:chExt cx="3349440" cy="2390760"/>
            </a:xfrm>
          </p:grpSpPr>
          <p:graphicFrame>
            <p:nvGraphicFramePr>
              <p:cNvPr id="157" name="Object 6"/>
              <p:cNvGraphicFramePr/>
              <p:nvPr/>
            </p:nvGraphicFramePr>
            <p:xfrm>
              <a:off x="3289320" y="749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8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89320" y="749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9" name="Object 7"/>
              <p:cNvGraphicFramePr/>
              <p:nvPr/>
            </p:nvGraphicFramePr>
            <p:xfrm>
              <a:off x="3286080" y="1282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0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86080" y="1282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1" name="Object 8"/>
              <p:cNvGraphicFramePr/>
              <p:nvPr/>
            </p:nvGraphicFramePr>
            <p:xfrm>
              <a:off x="3257640" y="2282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2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57640" y="2282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3" name="Object 9"/>
              <p:cNvGraphicFramePr/>
              <p:nvPr/>
            </p:nvGraphicFramePr>
            <p:xfrm>
              <a:off x="3406680" y="1803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64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06680" y="1803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Object 10"/>
              <p:cNvGraphicFramePr/>
              <p:nvPr/>
            </p:nvGraphicFramePr>
            <p:xfrm>
              <a:off x="3394080" y="2784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66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94080" y="2784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7" name="Text Box 11"/>
            <p:cNvSpPr/>
            <p:nvPr/>
          </p:nvSpPr>
          <p:spPr>
            <a:xfrm>
              <a:off x="2500560" y="677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520000" y="1706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2633760" y="120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501280" y="2182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509920" y="27068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2" name="Object 16"/>
          <p:cNvGraphicFramePr/>
          <p:nvPr/>
        </p:nvGraphicFramePr>
        <p:xfrm>
          <a:off x="3228840" y="3422520"/>
          <a:ext cx="221004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28840" y="3422520"/>
                    <a:ext cx="221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7"/>
          <p:cNvGraphicFramePr/>
          <p:nvPr/>
        </p:nvGraphicFramePr>
        <p:xfrm>
          <a:off x="3111480" y="4022640"/>
          <a:ext cx="284472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11480" y="4022640"/>
                    <a:ext cx="2844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8"/>
          <p:cNvGraphicFramePr/>
          <p:nvPr/>
        </p:nvGraphicFramePr>
        <p:xfrm>
          <a:off x="3086280" y="4572000"/>
          <a:ext cx="9144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6280" y="4572000"/>
                    <a:ext cx="914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241200" y="244440"/>
          <a:ext cx="46609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244440"/>
                    <a:ext cx="4660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3"/>
          <p:cNvGrpSpPr/>
          <p:nvPr/>
        </p:nvGrpSpPr>
        <p:grpSpPr>
          <a:xfrm>
            <a:off x="2358360" y="839880"/>
            <a:ext cx="4200840" cy="3014640"/>
            <a:chOff x="2358360" y="839880"/>
            <a:chExt cx="4200840" cy="3014640"/>
          </a:xfrm>
        </p:grpSpPr>
        <p:grpSp>
          <p:nvGrpSpPr>
            <p:cNvPr id="181" name="Group 4"/>
            <p:cNvGrpSpPr/>
            <p:nvPr/>
          </p:nvGrpSpPr>
          <p:grpSpPr>
            <a:xfrm>
              <a:off x="3209760" y="911160"/>
              <a:ext cx="3349440" cy="2390760"/>
              <a:chOff x="3209760" y="911160"/>
              <a:chExt cx="3349440" cy="2390760"/>
            </a:xfrm>
          </p:grpSpPr>
          <p:graphicFrame>
            <p:nvGraphicFramePr>
              <p:cNvPr id="182" name="Object 5"/>
              <p:cNvGraphicFramePr/>
              <p:nvPr/>
            </p:nvGraphicFramePr>
            <p:xfrm>
              <a:off x="3241440" y="911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3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41440" y="911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Object 6"/>
              <p:cNvGraphicFramePr/>
              <p:nvPr/>
            </p:nvGraphicFramePr>
            <p:xfrm>
              <a:off x="3238200" y="1444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5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38200" y="1444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6" name="Object 7"/>
              <p:cNvGraphicFramePr/>
              <p:nvPr/>
            </p:nvGraphicFramePr>
            <p:xfrm>
              <a:off x="3209760" y="2444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87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9760" y="2444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8" name="Object 8"/>
              <p:cNvGraphicFramePr/>
              <p:nvPr/>
            </p:nvGraphicFramePr>
            <p:xfrm>
              <a:off x="3358800" y="1965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9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358800" y="1965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0" name="Object 9"/>
              <p:cNvGraphicFramePr/>
              <p:nvPr/>
            </p:nvGraphicFramePr>
            <p:xfrm>
              <a:off x="3346200" y="2946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1" name="Object 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46200" y="2946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92" name="Text Box 10"/>
            <p:cNvSpPr/>
            <p:nvPr/>
          </p:nvSpPr>
          <p:spPr>
            <a:xfrm>
              <a:off x="2538720" y="83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253872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2358360" y="13636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2434680" y="2344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2462760" y="2868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Object 15"/>
            <p:cNvGraphicFramePr/>
            <p:nvPr/>
          </p:nvGraphicFramePr>
          <p:xfrm>
            <a:off x="3228840" y="3422520"/>
            <a:ext cx="2210040" cy="43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28840" y="3422520"/>
                      <a:ext cx="22100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Object 16"/>
          <p:cNvGraphicFramePr/>
          <p:nvPr/>
        </p:nvGraphicFramePr>
        <p:xfrm>
          <a:off x="3092400" y="4051440"/>
          <a:ext cx="25020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92400" y="4051440"/>
                    <a:ext cx="250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7"/>
          <p:cNvGraphicFramePr/>
          <p:nvPr/>
        </p:nvGraphicFramePr>
        <p:xfrm>
          <a:off x="3102120" y="4702320"/>
          <a:ext cx="246348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02120" y="4702320"/>
                    <a:ext cx="2463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18"/>
          <p:cNvSpPr/>
          <p:nvPr/>
        </p:nvSpPr>
        <p:spPr>
          <a:xfrm>
            <a:off x="3280680" y="51451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5:13:37Z</dcterms:created>
  <dc:creator>James A Aiu</dc:creator>
  <dc:description/>
  <dc:language>en-US</dc:language>
  <cp:lastModifiedBy>lucy.chambers</cp:lastModifiedBy>
  <dcterms:modified xsi:type="dcterms:W3CDTF">2011-01-07T17:03:18Z</dcterms:modified>
  <cp:revision>3</cp:revision>
  <dc:subject/>
  <dc:title>PowerPoint Presentation</dc:title>
</cp:coreProperties>
</file>